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</p:sldIdLst>
  <p:sldSz cx="9144000" cy="6858000"/>
  <p:notesSz cx="7189788" cy="9501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7189200" cy="95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hdr"/>
          </p:nvPr>
        </p:nvSpPr>
        <p:spPr>
          <a:xfrm>
            <a:off x="0" y="-1800"/>
            <a:ext cx="3114720" cy="4762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"/>
          </p:nvPr>
        </p:nvSpPr>
        <p:spPr>
          <a:xfrm>
            <a:off x="4073400" y="-1800"/>
            <a:ext cx="3114720" cy="4762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2"/>
          </p:nvPr>
        </p:nvSpPr>
        <p:spPr>
          <a:xfrm>
            <a:off x="0" y="9023040"/>
            <a:ext cx="3114720" cy="4762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3"/>
          </p:nvPr>
        </p:nvSpPr>
        <p:spPr>
          <a:xfrm>
            <a:off x="4073400" y="9023040"/>
            <a:ext cx="3114720" cy="4762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4B6619B1-4D7D-4483-BF47-8F266314D03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2955600" y="9045720"/>
            <a:ext cx="127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7520" bIns="475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EA74C93A-5EB8-416E-AB36-666A030B635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Img"/>
          </p:nvPr>
        </p:nvSpPr>
        <p:spPr>
          <a:xfrm>
            <a:off x="1227240" y="717480"/>
            <a:ext cx="4734000" cy="3549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 type="body"/>
          </p:nvPr>
        </p:nvSpPr>
        <p:spPr>
          <a:xfrm>
            <a:off x="958320" y="4510080"/>
            <a:ext cx="5270760" cy="4276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9AB906C3-DE64-4F65-8801-DEAB5BD6C630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227240" y="717480"/>
            <a:ext cx="4734000" cy="35496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58320" y="4510080"/>
            <a:ext cx="52707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238628D9-2574-45DC-803A-8752D5AECB4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2063880" y="639720"/>
            <a:ext cx="2840040" cy="213048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585720" y="2890800"/>
            <a:ext cx="6029280" cy="60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AC2217DC-CCE4-4BE9-AC9C-99F21569469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2063880" y="639720"/>
            <a:ext cx="2840040" cy="213048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585720" y="2890800"/>
            <a:ext cx="6029280" cy="60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47B0C88B-6DF6-4DC8-84AA-76546F1B11E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2063880" y="639720"/>
            <a:ext cx="2840040" cy="213048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585720" y="2890800"/>
            <a:ext cx="6029280" cy="60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47D38BB3-3B23-4AAA-A315-DC6C9BDC448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2063880" y="639720"/>
            <a:ext cx="2840040" cy="213048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585720" y="2890800"/>
            <a:ext cx="6029280" cy="60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CEDBFFE6-5A00-4086-BF02-36034D1AD156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2036683F-3ABA-4019-8A0B-63A7A3EBB502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924B978E-4E75-4646-AF18-8251D0E26D1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513CF7E8-E0A7-4A02-A505-DFFF24FB3302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CB880B81-ED9F-4745-8C46-B9E043AF19D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BE65CCC0-A3B5-4932-9923-E6E8AD254DE3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57FB0616-5774-4DEC-8D78-0BABBF540822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1FE32D2B-38C4-41F4-BF8D-AA67E7B395C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BA93167B-1529-414B-88E7-5BA5CF9197B2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F97587C4-4377-4359-81BB-C7714DE4BB9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2063880" y="639720"/>
            <a:ext cx="2840040" cy="213048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585720" y="2890800"/>
            <a:ext cx="6029280" cy="60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CC82125F-CB37-430D-B3E9-8F733473513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2062080" y="641520"/>
            <a:ext cx="2838600" cy="212868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592200" y="2897280"/>
            <a:ext cx="6013440" cy="6041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46CB98E1-020D-47AE-8F7C-045B9F94DE0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2062080" y="641520"/>
            <a:ext cx="2838600" cy="212868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592200" y="2897280"/>
            <a:ext cx="6013440" cy="6041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D55F7A84-F232-438D-AAB4-3B5744712758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2062080" y="641520"/>
            <a:ext cx="2838600" cy="212868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592200" y="2897280"/>
            <a:ext cx="6013440" cy="6041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A52B8D47-AB14-4088-A9DD-907F5C85E196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2062080" y="641520"/>
            <a:ext cx="2838600" cy="212868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592200" y="2897280"/>
            <a:ext cx="6013440" cy="6041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EBAF3F53-CCBB-4E01-AB25-13A361EEC75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EE27F4DF-7B5A-4BEF-B775-0F2F9B1728D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2097000" y="666720"/>
            <a:ext cx="2770200" cy="207792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585720" y="2890800"/>
            <a:ext cx="6029280" cy="60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C30F23E1-7279-4F9C-9586-DFCA4F6CADA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3DF275AE-A163-40A5-986A-4B395DFA342F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AB26C879-856C-4FC7-89D0-C37C67A8EAAF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0C087768-D074-4C3B-A07B-1D7C7CB2214E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40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96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2880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40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96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930240" y="509400"/>
            <a:ext cx="742176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4340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9396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92880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4340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9396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30240" y="509400"/>
            <a:ext cx="742176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680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7200" y="6566040"/>
            <a:ext cx="23428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2002 by Carnegie Mellon University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4114440" y="6567480"/>
            <a:ext cx="986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5904000" y="6564240"/>
            <a:ext cx="319860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 - Introduction to PSP - </a:t>
            </a:r>
            <a:fld id="{8E344EE2-AC64-4233-A485-5B610960735E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932040" y="4595760"/>
            <a:ext cx="73134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ftware Engineering Institute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negie Mellon University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ittsburgh, PA 15213-3890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4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ponsored by the U.S. Department of Defense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02 by Carnegie Mellon University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2" name="Rectangle 1029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3" name="Line 1031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4" name="Rectangle 1033"/>
          <p:cNvSpPr/>
          <p:nvPr/>
        </p:nvSpPr>
        <p:spPr>
          <a:xfrm>
            <a:off x="5970600" y="6564240"/>
            <a:ext cx="3144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 - Introduction to PSP - </a:t>
            </a:r>
            <a:fld id="{CE61A09C-BB3A-4205-A586-5FBB61B367D9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grpSp>
        <p:nvGrpSpPr>
          <p:cNvPr id="45" name="Group 1034"/>
          <p:cNvGrpSpPr/>
          <p:nvPr/>
        </p:nvGrpSpPr>
        <p:grpSpPr>
          <a:xfrm>
            <a:off x="146160" y="201600"/>
            <a:ext cx="3490200" cy="488520"/>
            <a:chOff x="146160" y="201600"/>
            <a:chExt cx="3490200" cy="488520"/>
          </a:xfrm>
        </p:grpSpPr>
        <p:sp>
          <p:nvSpPr>
            <p:cNvPr id="46" name="Rectangle 1035"/>
            <p:cNvSpPr/>
            <p:nvPr/>
          </p:nvSpPr>
          <p:spPr>
            <a:xfrm>
              <a:off x="1002960" y="256680"/>
              <a:ext cx="13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C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7" name="Rectangle 1036"/>
            <p:cNvSpPr/>
            <p:nvPr/>
          </p:nvSpPr>
          <p:spPr>
            <a:xfrm>
              <a:off x="1122120" y="25668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a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8" name="Rectangle 1037"/>
            <p:cNvSpPr/>
            <p:nvPr/>
          </p:nvSpPr>
          <p:spPr>
            <a:xfrm>
              <a:off x="1230120" y="256680"/>
              <a:ext cx="9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r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9" name="Rectangle 1038"/>
            <p:cNvSpPr/>
            <p:nvPr/>
          </p:nvSpPr>
          <p:spPr>
            <a:xfrm>
              <a:off x="1311840" y="256680"/>
              <a:ext cx="13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0" name="Rectangle 1039"/>
            <p:cNvSpPr/>
            <p:nvPr/>
          </p:nvSpPr>
          <p:spPr>
            <a:xfrm>
              <a:off x="141588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1" name="Rectangle 1040"/>
            <p:cNvSpPr/>
            <p:nvPr/>
          </p:nvSpPr>
          <p:spPr>
            <a:xfrm>
              <a:off x="1501560" y="256680"/>
              <a:ext cx="12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g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2" name="Rectangle 1041"/>
            <p:cNvSpPr/>
            <p:nvPr/>
          </p:nvSpPr>
          <p:spPr>
            <a:xfrm>
              <a:off x="161064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i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3" name="Rectangle 1042"/>
            <p:cNvSpPr/>
            <p:nvPr/>
          </p:nvSpPr>
          <p:spPr>
            <a:xfrm>
              <a:off x="165384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4" name="Rectangle 1043"/>
            <p:cNvSpPr/>
            <p:nvPr/>
          </p:nvSpPr>
          <p:spPr>
            <a:xfrm>
              <a:off x="1764360" y="25668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 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5" name="Rectangle 1044"/>
            <p:cNvSpPr/>
            <p:nvPr/>
          </p:nvSpPr>
          <p:spPr>
            <a:xfrm>
              <a:off x="1768680" y="256680"/>
              <a:ext cx="19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M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6" name="Rectangle 1045"/>
            <p:cNvSpPr/>
            <p:nvPr/>
          </p:nvSpPr>
          <p:spPr>
            <a:xfrm>
              <a:off x="193032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7" name="Rectangle 1046"/>
            <p:cNvSpPr/>
            <p:nvPr/>
          </p:nvSpPr>
          <p:spPr>
            <a:xfrm>
              <a:off x="202680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l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8" name="Rectangle 1047"/>
            <p:cNvSpPr/>
            <p:nvPr/>
          </p:nvSpPr>
          <p:spPr>
            <a:xfrm>
              <a:off x="208548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l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9" name="Rectangle 1048"/>
            <p:cNvSpPr/>
            <p:nvPr/>
          </p:nvSpPr>
          <p:spPr>
            <a:xfrm>
              <a:off x="2129760" y="256680"/>
              <a:ext cx="12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o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0" name="Rectangle 1049"/>
            <p:cNvSpPr/>
            <p:nvPr/>
          </p:nvSpPr>
          <p:spPr>
            <a:xfrm>
              <a:off x="2229840" y="256680"/>
              <a:ext cx="13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1" name="Freeform 1050"/>
            <p:cNvSpPr/>
            <p:nvPr/>
          </p:nvSpPr>
          <p:spPr>
            <a:xfrm>
              <a:off x="483840" y="201600"/>
              <a:ext cx="237240" cy="338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9" y="0"/>
                  </a:moveTo>
                  <a:lnTo>
                    <a:pt x="115" y="0"/>
                  </a:lnTo>
                  <a:lnTo>
                    <a:pt x="133" y="19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2" name="Freeform 1051"/>
            <p:cNvSpPr/>
            <p:nvPr/>
          </p:nvSpPr>
          <p:spPr>
            <a:xfrm>
              <a:off x="414000" y="270720"/>
              <a:ext cx="376560" cy="33840"/>
            </a:xfrm>
            <a:custGeom>
              <a:avLst/>
              <a:gdLst/>
              <a:ahLst/>
              <a:rect l="l" t="t" r="r" b="b"/>
              <a:pathLst>
                <a:path w="211" h="19">
                  <a:moveTo>
                    <a:pt x="19" y="0"/>
                  </a:moveTo>
                  <a:lnTo>
                    <a:pt x="192" y="0"/>
                  </a:lnTo>
                  <a:lnTo>
                    <a:pt x="211" y="19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3" name="Freeform 1052"/>
            <p:cNvSpPr/>
            <p:nvPr/>
          </p:nvSpPr>
          <p:spPr>
            <a:xfrm>
              <a:off x="344520" y="342360"/>
              <a:ext cx="515880" cy="31680"/>
            </a:xfrm>
            <a:custGeom>
              <a:avLst/>
              <a:gdLst/>
              <a:ahLst/>
              <a:rect l="l" t="t" r="r" b="b"/>
              <a:pathLst>
                <a:path w="289" h="18">
                  <a:moveTo>
                    <a:pt x="19" y="0"/>
                  </a:moveTo>
                  <a:lnTo>
                    <a:pt x="270" y="0"/>
                  </a:lnTo>
                  <a:lnTo>
                    <a:pt x="289" y="18"/>
                  </a:lnTo>
                  <a:lnTo>
                    <a:pt x="0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4" name="Freeform 1053"/>
            <p:cNvSpPr/>
            <p:nvPr/>
          </p:nvSpPr>
          <p:spPr>
            <a:xfrm>
              <a:off x="290880" y="411840"/>
              <a:ext cx="623160" cy="31680"/>
            </a:xfrm>
            <a:custGeom>
              <a:avLst/>
              <a:gdLst/>
              <a:ahLst/>
              <a:rect l="l" t="t" r="r" b="b"/>
              <a:pathLst>
                <a:path w="349" h="18">
                  <a:moveTo>
                    <a:pt x="9" y="0"/>
                  </a:moveTo>
                  <a:lnTo>
                    <a:pt x="340" y="0"/>
                  </a:lnTo>
                  <a:lnTo>
                    <a:pt x="349" y="9"/>
                  </a:lnTo>
                  <a:lnTo>
                    <a:pt x="340" y="18"/>
                  </a:lnTo>
                  <a:lnTo>
                    <a:pt x="9" y="18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5" name="Freeform 1054"/>
            <p:cNvSpPr/>
            <p:nvPr/>
          </p:nvSpPr>
          <p:spPr>
            <a:xfrm>
              <a:off x="481680" y="619920"/>
              <a:ext cx="237600" cy="338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15" y="19"/>
                  </a:moveTo>
                  <a:lnTo>
                    <a:pt x="18" y="19"/>
                  </a:lnTo>
                  <a:lnTo>
                    <a:pt x="0" y="0"/>
                  </a:lnTo>
                  <a:lnTo>
                    <a:pt x="133" y="0"/>
                  </a:lnTo>
                  <a:lnTo>
                    <a:pt x="115" y="19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6" name="Freeform 1055"/>
            <p:cNvSpPr/>
            <p:nvPr/>
          </p:nvSpPr>
          <p:spPr>
            <a:xfrm>
              <a:off x="412200" y="550440"/>
              <a:ext cx="378360" cy="32040"/>
            </a:xfrm>
            <a:custGeom>
              <a:avLst/>
              <a:gdLst/>
              <a:ahLst/>
              <a:rect l="l" t="t" r="r" b="b"/>
              <a:pathLst>
                <a:path w="212" h="18">
                  <a:moveTo>
                    <a:pt x="193" y="18"/>
                  </a:moveTo>
                  <a:lnTo>
                    <a:pt x="19" y="18"/>
                  </a:lnTo>
                  <a:lnTo>
                    <a:pt x="0" y="0"/>
                  </a:lnTo>
                  <a:lnTo>
                    <a:pt x="212" y="0"/>
                  </a:lnTo>
                  <a:lnTo>
                    <a:pt x="193" y="18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7" name="Freeform 1056"/>
            <p:cNvSpPr/>
            <p:nvPr/>
          </p:nvSpPr>
          <p:spPr>
            <a:xfrm>
              <a:off x="340920" y="479160"/>
              <a:ext cx="519480" cy="33840"/>
            </a:xfrm>
            <a:custGeom>
              <a:avLst/>
              <a:gdLst/>
              <a:ahLst/>
              <a:rect l="l" t="t" r="r" b="b"/>
              <a:pathLst>
                <a:path w="291" h="19">
                  <a:moveTo>
                    <a:pt x="273" y="19"/>
                  </a:moveTo>
                  <a:lnTo>
                    <a:pt x="19" y="19"/>
                  </a:lnTo>
                  <a:lnTo>
                    <a:pt x="0" y="0"/>
                  </a:lnTo>
                  <a:lnTo>
                    <a:pt x="291" y="0"/>
                  </a:lnTo>
                  <a:lnTo>
                    <a:pt x="273" y="19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8" name="Freeform 1057"/>
            <p:cNvSpPr/>
            <p:nvPr/>
          </p:nvSpPr>
          <p:spPr>
            <a:xfrm>
              <a:off x="290880" y="248040"/>
              <a:ext cx="281520" cy="12240"/>
            </a:xfrm>
            <a:custGeom>
              <a:avLst/>
              <a:gdLst/>
              <a:ahLst/>
              <a:rect l="l" t="t" r="r" b="b"/>
              <a:pathLst>
                <a:path w="158" h="7">
                  <a:moveTo>
                    <a:pt x="158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151" y="0"/>
                  </a:lnTo>
                  <a:lnTo>
                    <a:pt x="158" y="7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9" name="Freeform 1058"/>
            <p:cNvSpPr/>
            <p:nvPr/>
          </p:nvSpPr>
          <p:spPr>
            <a:xfrm>
              <a:off x="221400" y="318960"/>
              <a:ext cx="420840" cy="10800"/>
            </a:xfrm>
            <a:custGeom>
              <a:avLst/>
              <a:gdLst/>
              <a:ahLst/>
              <a:rect l="l" t="t" r="r" b="b"/>
              <a:pathLst>
                <a:path w="236" h="6">
                  <a:moveTo>
                    <a:pt x="236" y="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229" y="0"/>
                  </a:lnTo>
                  <a:lnTo>
                    <a:pt x="236" y="6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0" name="Freeform 1059"/>
            <p:cNvSpPr/>
            <p:nvPr/>
          </p:nvSpPr>
          <p:spPr>
            <a:xfrm>
              <a:off x="151560" y="387000"/>
              <a:ext cx="560160" cy="12240"/>
            </a:xfrm>
            <a:custGeom>
              <a:avLst/>
              <a:gdLst/>
              <a:ahLst/>
              <a:rect l="l" t="t" r="r" b="b"/>
              <a:pathLst>
                <a:path w="314" h="7">
                  <a:moveTo>
                    <a:pt x="314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307" y="0"/>
                  </a:lnTo>
                  <a:lnTo>
                    <a:pt x="314" y="7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1" name="Freeform 1060"/>
            <p:cNvSpPr/>
            <p:nvPr/>
          </p:nvSpPr>
          <p:spPr>
            <a:xfrm>
              <a:off x="285120" y="595440"/>
              <a:ext cx="287280" cy="12240"/>
            </a:xfrm>
            <a:custGeom>
              <a:avLst/>
              <a:gdLst/>
              <a:ahLst/>
              <a:rect l="l" t="t" r="r" b="b"/>
              <a:pathLst>
                <a:path w="161" h="7">
                  <a:moveTo>
                    <a:pt x="0" y="0"/>
                  </a:moveTo>
                  <a:lnTo>
                    <a:pt x="161" y="0"/>
                  </a:lnTo>
                  <a:lnTo>
                    <a:pt x="154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2" name="Freeform 1061"/>
            <p:cNvSpPr/>
            <p:nvPr/>
          </p:nvSpPr>
          <p:spPr>
            <a:xfrm>
              <a:off x="215640" y="525960"/>
              <a:ext cx="426600" cy="12240"/>
            </a:xfrm>
            <a:custGeom>
              <a:avLst/>
              <a:gdLst/>
              <a:ahLst/>
              <a:rect l="l" t="t" r="r" b="b"/>
              <a:pathLst>
                <a:path w="239" h="7">
                  <a:moveTo>
                    <a:pt x="0" y="0"/>
                  </a:moveTo>
                  <a:lnTo>
                    <a:pt x="239" y="0"/>
                  </a:lnTo>
                  <a:lnTo>
                    <a:pt x="233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3" name="Freeform 1062"/>
            <p:cNvSpPr/>
            <p:nvPr/>
          </p:nvSpPr>
          <p:spPr>
            <a:xfrm>
              <a:off x="146160" y="456480"/>
              <a:ext cx="565920" cy="12240"/>
            </a:xfrm>
            <a:custGeom>
              <a:avLst/>
              <a:gdLst/>
              <a:ahLst/>
              <a:rect l="l" t="t" r="r" b="b"/>
              <a:pathLst>
                <a:path w="317" h="7">
                  <a:moveTo>
                    <a:pt x="0" y="0"/>
                  </a:moveTo>
                  <a:lnTo>
                    <a:pt x="317" y="0"/>
                  </a:lnTo>
                  <a:lnTo>
                    <a:pt x="311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4" name="Rectangle 1063"/>
            <p:cNvSpPr/>
            <p:nvPr/>
          </p:nvSpPr>
          <p:spPr>
            <a:xfrm>
              <a:off x="1015200" y="461520"/>
              <a:ext cx="1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S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5" name="Rectangle 1064"/>
            <p:cNvSpPr/>
            <p:nvPr/>
          </p:nvSpPr>
          <p:spPr>
            <a:xfrm>
              <a:off x="1121040" y="461520"/>
              <a:ext cx="1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o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6" name="Rectangle 1065"/>
            <p:cNvSpPr/>
            <p:nvPr/>
          </p:nvSpPr>
          <p:spPr>
            <a:xfrm>
              <a:off x="1230480" y="461520"/>
              <a:ext cx="7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f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7" name="Rectangle 1066"/>
            <p:cNvSpPr/>
            <p:nvPr/>
          </p:nvSpPr>
          <p:spPr>
            <a:xfrm>
              <a:off x="128664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8" name="Rectangle 1067"/>
            <p:cNvSpPr/>
            <p:nvPr/>
          </p:nvSpPr>
          <p:spPr>
            <a:xfrm>
              <a:off x="1360440" y="461520"/>
              <a:ext cx="16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w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9" name="Rectangle 1068"/>
            <p:cNvSpPr/>
            <p:nvPr/>
          </p:nvSpPr>
          <p:spPr>
            <a:xfrm>
              <a:off x="1510920" y="46152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a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0" name="Rectangle 1069"/>
            <p:cNvSpPr/>
            <p:nvPr/>
          </p:nvSpPr>
          <p:spPr>
            <a:xfrm>
              <a:off x="1605960" y="461520"/>
              <a:ext cx="8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r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1" name="Rectangle 1070"/>
            <p:cNvSpPr/>
            <p:nvPr/>
          </p:nvSpPr>
          <p:spPr>
            <a:xfrm>
              <a:off x="168372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2" name="Rectangle 1071"/>
            <p:cNvSpPr/>
            <p:nvPr/>
          </p:nvSpPr>
          <p:spPr>
            <a:xfrm>
              <a:off x="1791000" y="4615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3" name="Rectangle 1072"/>
            <p:cNvSpPr/>
            <p:nvPr/>
          </p:nvSpPr>
          <p:spPr>
            <a:xfrm>
              <a:off x="1834920" y="4615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4" name="Rectangle 1073"/>
            <p:cNvSpPr/>
            <p:nvPr/>
          </p:nvSpPr>
          <p:spPr>
            <a:xfrm>
              <a:off x="19350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5" name="Rectangle 1074"/>
            <p:cNvSpPr/>
            <p:nvPr/>
          </p:nvSpPr>
          <p:spPr>
            <a:xfrm>
              <a:off x="2044800" y="461520"/>
              <a:ext cx="12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g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6" name="Rectangle 1075"/>
            <p:cNvSpPr/>
            <p:nvPr/>
          </p:nvSpPr>
          <p:spPr>
            <a:xfrm>
              <a:off x="215064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7" name="Rectangle 1076"/>
            <p:cNvSpPr/>
            <p:nvPr/>
          </p:nvSpPr>
          <p:spPr>
            <a:xfrm>
              <a:off x="21978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8" name="Rectangle 1077"/>
            <p:cNvSpPr/>
            <p:nvPr/>
          </p:nvSpPr>
          <p:spPr>
            <a:xfrm>
              <a:off x="230544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9" name="Rectangle 1078"/>
            <p:cNvSpPr/>
            <p:nvPr/>
          </p:nvSpPr>
          <p:spPr>
            <a:xfrm>
              <a:off x="240912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0" name="Rectangle 1079"/>
            <p:cNvSpPr/>
            <p:nvPr/>
          </p:nvSpPr>
          <p:spPr>
            <a:xfrm>
              <a:off x="2505960" y="461520"/>
              <a:ext cx="8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r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1" name="Rectangle 1080"/>
            <p:cNvSpPr/>
            <p:nvPr/>
          </p:nvSpPr>
          <p:spPr>
            <a:xfrm>
              <a:off x="258336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2" name="Rectangle 1081"/>
            <p:cNvSpPr/>
            <p:nvPr/>
          </p:nvSpPr>
          <p:spPr>
            <a:xfrm>
              <a:off x="26316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3" name="Rectangle 1082"/>
            <p:cNvSpPr/>
            <p:nvPr/>
          </p:nvSpPr>
          <p:spPr>
            <a:xfrm>
              <a:off x="2741040" y="461520"/>
              <a:ext cx="12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g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4" name="Rectangle 1083"/>
            <p:cNvSpPr/>
            <p:nvPr/>
          </p:nvSpPr>
          <p:spPr>
            <a:xfrm>
              <a:off x="2858760" y="4615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5" name="Rectangle 1084"/>
            <p:cNvSpPr/>
            <p:nvPr/>
          </p:nvSpPr>
          <p:spPr>
            <a:xfrm>
              <a:off x="2885400" y="461520"/>
              <a:ext cx="75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6" name="Rectangle 1085"/>
            <p:cNvSpPr/>
            <p:nvPr/>
          </p:nvSpPr>
          <p:spPr>
            <a:xfrm>
              <a:off x="293868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7" name="Rectangle 1086"/>
            <p:cNvSpPr/>
            <p:nvPr/>
          </p:nvSpPr>
          <p:spPr>
            <a:xfrm>
              <a:off x="3055680" y="461520"/>
              <a:ext cx="95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s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8" name="Rectangle 1087"/>
            <p:cNvSpPr/>
            <p:nvPr/>
          </p:nvSpPr>
          <p:spPr>
            <a:xfrm>
              <a:off x="314532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9" name="Rectangle 1088"/>
            <p:cNvSpPr/>
            <p:nvPr/>
          </p:nvSpPr>
          <p:spPr>
            <a:xfrm>
              <a:off x="321552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0" name="Rectangle 1089"/>
            <p:cNvSpPr/>
            <p:nvPr/>
          </p:nvSpPr>
          <p:spPr>
            <a:xfrm>
              <a:off x="326880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1" name="Rectangle 1090"/>
            <p:cNvSpPr/>
            <p:nvPr/>
          </p:nvSpPr>
          <p:spPr>
            <a:xfrm>
              <a:off x="333864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u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2" name="Rectangle 1091"/>
            <p:cNvSpPr/>
            <p:nvPr/>
          </p:nvSpPr>
          <p:spPr>
            <a:xfrm>
              <a:off x="345276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3" name="Rectangle 1092"/>
            <p:cNvSpPr/>
            <p:nvPr/>
          </p:nvSpPr>
          <p:spPr>
            <a:xfrm>
              <a:off x="352296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sp>
        <p:nvSpPr>
          <p:cNvPr id="104" name="Rectangle 1093"/>
          <p:cNvSpPr/>
          <p:nvPr/>
        </p:nvSpPr>
        <p:spPr>
          <a:xfrm>
            <a:off x="4117680" y="6567480"/>
            <a:ext cx="986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680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5120" y="939600"/>
            <a:ext cx="831852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Personal Software</a:t>
            </a:r>
            <a:r>
              <a:rPr b="0" lang="en-US" sz="48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Process</a:t>
            </a:r>
            <a:r>
              <a:rPr b="0" lang="en-US" sz="2400" spc="-1" strike="noStrike" baseline="90000">
                <a:solidFill>
                  <a:srgbClr val="ffffff"/>
                </a:solidFill>
                <a:latin typeface="Century Schoolbook"/>
              </a:rPr>
              <a:t>SM</a:t>
            </a:r>
            <a:r>
              <a:rPr b="0" lang="en-US" sz="4800" spc="-1" strike="noStrike">
                <a:solidFill>
                  <a:srgbClr val="ffffff"/>
                </a:solidFill>
                <a:latin typeface="Century Schoolbook"/>
              </a:rPr>
              <a:t> </a:t>
            </a:r>
            <a:br>
              <a:rPr sz="4800"/>
            </a:b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for Engineers: Part II</a:t>
            </a:r>
            <a:br>
              <a:rPr sz="4800"/>
            </a:br>
            <a:br>
              <a:rPr sz="4800"/>
            </a:b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Scaling Up To and Using the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eam Software Proces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What is Scalability?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813960" y="145080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product-development process is scalable when the methods and techniques used will work equally well for larger project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alability typical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lies over small product size rang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 limited to similar application domai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es not apply to unprecedented syste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es not work for poorly-managed projec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 unlikely to apply when the engineering work is undiscipl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Scalability Objectiv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801720" y="145080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calability objective is to develop large products with the same quality and productivity as small product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alability will apply only to tasks that were done on the smaller projec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ce the new tasks required by the larger project require additional work, productivity will generally decline with increasing job scal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Scalability Stage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820440" y="1434960"/>
            <a:ext cx="776916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 can view software systems as being divided into five scalability stag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se scalability stages a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ge 0: simple routines written by programm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ge 1: small programs or modules written by programm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ge 2: large programs or components written by te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ge 3: large projects or systems written by multiple te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ge 4: multi-systems written by many autonomous or loosely-federated te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03160" y="43308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Scope of Scalability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268200" y="4429080"/>
            <a:ext cx="1095840" cy="5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mall 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jects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266760" y="3070080"/>
            <a:ext cx="1095840" cy="5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dium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jects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282240" y="1868400"/>
            <a:ext cx="969480" cy="5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rge 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ject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grpSp>
        <p:nvGrpSpPr>
          <p:cNvPr id="183" name="Group 6"/>
          <p:cNvGrpSpPr/>
          <p:nvPr/>
        </p:nvGrpSpPr>
        <p:grpSpPr>
          <a:xfrm>
            <a:off x="1157400" y="1782720"/>
            <a:ext cx="7415280" cy="3773520"/>
            <a:chOff x="1157400" y="1782720"/>
            <a:chExt cx="7415280" cy="3773520"/>
          </a:xfrm>
        </p:grpSpPr>
        <p:sp>
          <p:nvSpPr>
            <p:cNvPr id="184" name="Line 7"/>
            <p:cNvSpPr/>
            <p:nvPr/>
          </p:nvSpPr>
          <p:spPr>
            <a:xfrm flipH="1">
              <a:off x="2155320" y="3621240"/>
              <a:ext cx="428760" cy="958680"/>
            </a:xfrm>
            <a:prstGeom prst="line">
              <a:avLst/>
            </a:prstGeom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85" name="Line 8"/>
            <p:cNvSpPr/>
            <p:nvPr/>
          </p:nvSpPr>
          <p:spPr>
            <a:xfrm>
              <a:off x="2994120" y="3619440"/>
              <a:ext cx="625320" cy="1036800"/>
            </a:xfrm>
            <a:prstGeom prst="line">
              <a:avLst/>
            </a:prstGeom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86" name="Line 9"/>
            <p:cNvSpPr/>
            <p:nvPr/>
          </p:nvSpPr>
          <p:spPr>
            <a:xfrm flipH="1">
              <a:off x="5389200" y="3589200"/>
              <a:ext cx="909720" cy="925560"/>
            </a:xfrm>
            <a:prstGeom prst="line">
              <a:avLst/>
            </a:prstGeom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87" name="Line 10"/>
            <p:cNvSpPr/>
            <p:nvPr/>
          </p:nvSpPr>
          <p:spPr>
            <a:xfrm>
              <a:off x="6669000" y="3605040"/>
              <a:ext cx="0" cy="1167120"/>
            </a:xfrm>
            <a:prstGeom prst="line">
              <a:avLst/>
            </a:prstGeom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88" name="Line 11"/>
            <p:cNvSpPr/>
            <p:nvPr/>
          </p:nvSpPr>
          <p:spPr>
            <a:xfrm>
              <a:off x="7124760" y="3605040"/>
              <a:ext cx="1095480" cy="1092240"/>
            </a:xfrm>
            <a:prstGeom prst="line">
              <a:avLst/>
            </a:prstGeom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89" name="Line 12"/>
            <p:cNvSpPr/>
            <p:nvPr/>
          </p:nvSpPr>
          <p:spPr>
            <a:xfrm flipH="1">
              <a:off x="2965320" y="2359080"/>
              <a:ext cx="1408320" cy="893880"/>
            </a:xfrm>
            <a:prstGeom prst="line">
              <a:avLst/>
            </a:prstGeom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90" name="Line 13"/>
            <p:cNvSpPr/>
            <p:nvPr/>
          </p:nvSpPr>
          <p:spPr>
            <a:xfrm>
              <a:off x="4789440" y="2384280"/>
              <a:ext cx="1392120" cy="782640"/>
            </a:xfrm>
            <a:prstGeom prst="line">
              <a:avLst/>
            </a:prstGeom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91" name="Rectangle 14"/>
            <p:cNvSpPr/>
            <p:nvPr/>
          </p:nvSpPr>
          <p:spPr>
            <a:xfrm>
              <a:off x="1157400" y="5111640"/>
              <a:ext cx="852480" cy="401760"/>
            </a:xfrm>
            <a:prstGeom prst="rect">
              <a:avLst/>
            </a:prstGeom>
            <a:solidFill>
              <a:srgbClr val="666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Module C</a:t>
              </a:r>
              <a:endParaRPr b="1" lang="en-US" sz="12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92" name="Rectangle 15"/>
            <p:cNvSpPr/>
            <p:nvPr/>
          </p:nvSpPr>
          <p:spPr>
            <a:xfrm>
              <a:off x="1441440" y="4791240"/>
              <a:ext cx="851040" cy="403200"/>
            </a:xfrm>
            <a:prstGeom prst="rect">
              <a:avLst/>
            </a:prstGeom>
            <a:solidFill>
              <a:srgbClr val="4747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Module B</a:t>
              </a:r>
              <a:endParaRPr b="1" lang="en-US" sz="12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93" name="Rectangle 16"/>
            <p:cNvSpPr/>
            <p:nvPr/>
          </p:nvSpPr>
          <p:spPr>
            <a:xfrm>
              <a:off x="1698480" y="4489560"/>
              <a:ext cx="851040" cy="40140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Module A</a:t>
              </a:r>
              <a:endParaRPr b="1" lang="en-US" sz="12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94" name="Rectangle 17"/>
            <p:cNvSpPr/>
            <p:nvPr/>
          </p:nvSpPr>
          <p:spPr>
            <a:xfrm>
              <a:off x="2859120" y="5154480"/>
              <a:ext cx="852480" cy="401760"/>
            </a:xfrm>
            <a:prstGeom prst="rect">
              <a:avLst/>
            </a:prstGeom>
            <a:solidFill>
              <a:srgbClr val="666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Module F</a:t>
              </a:r>
              <a:endParaRPr b="1" lang="en-US" sz="12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95" name="Rectangle 18"/>
            <p:cNvSpPr/>
            <p:nvPr/>
          </p:nvSpPr>
          <p:spPr>
            <a:xfrm>
              <a:off x="3127320" y="4834080"/>
              <a:ext cx="851040" cy="403200"/>
            </a:xfrm>
            <a:prstGeom prst="rect">
              <a:avLst/>
            </a:prstGeom>
            <a:solidFill>
              <a:srgbClr val="4747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Module E</a:t>
              </a:r>
              <a:endParaRPr b="1" lang="en-US" sz="12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96" name="Rectangle 19"/>
            <p:cNvSpPr/>
            <p:nvPr/>
          </p:nvSpPr>
          <p:spPr>
            <a:xfrm>
              <a:off x="3400560" y="4532400"/>
              <a:ext cx="852480" cy="40140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Module D</a:t>
              </a:r>
              <a:endParaRPr b="1" lang="en-US" sz="12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97" name="Rectangle 20"/>
            <p:cNvSpPr/>
            <p:nvPr/>
          </p:nvSpPr>
          <p:spPr>
            <a:xfrm>
              <a:off x="4552920" y="5140440"/>
              <a:ext cx="851040" cy="401400"/>
            </a:xfrm>
            <a:prstGeom prst="rect">
              <a:avLst/>
            </a:prstGeom>
            <a:solidFill>
              <a:srgbClr val="666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Module I</a:t>
              </a:r>
              <a:endParaRPr b="1" lang="en-US" sz="12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98" name="Rectangle 21"/>
            <p:cNvSpPr/>
            <p:nvPr/>
          </p:nvSpPr>
          <p:spPr>
            <a:xfrm>
              <a:off x="4819680" y="4819680"/>
              <a:ext cx="852480" cy="403200"/>
            </a:xfrm>
            <a:prstGeom prst="rect">
              <a:avLst/>
            </a:prstGeom>
            <a:solidFill>
              <a:srgbClr val="4747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Module H</a:t>
              </a:r>
              <a:endParaRPr b="1" lang="en-US" sz="12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99" name="Rectangle 22"/>
            <p:cNvSpPr/>
            <p:nvPr/>
          </p:nvSpPr>
          <p:spPr>
            <a:xfrm>
              <a:off x="5076720" y="4518000"/>
              <a:ext cx="852480" cy="40176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Module G</a:t>
              </a:r>
              <a:endParaRPr b="1" lang="en-US" sz="12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00" name="Rectangle 23"/>
            <p:cNvSpPr/>
            <p:nvPr/>
          </p:nvSpPr>
          <p:spPr>
            <a:xfrm>
              <a:off x="5865840" y="5126040"/>
              <a:ext cx="851040" cy="401760"/>
            </a:xfrm>
            <a:prstGeom prst="rect">
              <a:avLst/>
            </a:prstGeom>
            <a:solidFill>
              <a:srgbClr val="666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Module L</a:t>
              </a:r>
              <a:endParaRPr b="1" lang="en-US" sz="12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01" name="Rectangle 24"/>
            <p:cNvSpPr/>
            <p:nvPr/>
          </p:nvSpPr>
          <p:spPr>
            <a:xfrm>
              <a:off x="6132600" y="4805280"/>
              <a:ext cx="852480" cy="403200"/>
            </a:xfrm>
            <a:prstGeom prst="rect">
              <a:avLst/>
            </a:prstGeom>
            <a:solidFill>
              <a:srgbClr val="4747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Module K</a:t>
              </a:r>
              <a:endParaRPr b="1" lang="en-US" sz="12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02" name="Rectangle 25"/>
            <p:cNvSpPr/>
            <p:nvPr/>
          </p:nvSpPr>
          <p:spPr>
            <a:xfrm>
              <a:off x="6389640" y="4503600"/>
              <a:ext cx="852480" cy="40176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Module J</a:t>
              </a:r>
              <a:endParaRPr b="1" lang="en-US" sz="12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03" name="Rectangle 26"/>
            <p:cNvSpPr/>
            <p:nvPr/>
          </p:nvSpPr>
          <p:spPr>
            <a:xfrm>
              <a:off x="7196040" y="5140440"/>
              <a:ext cx="851040" cy="401400"/>
            </a:xfrm>
            <a:prstGeom prst="rect">
              <a:avLst/>
            </a:prstGeom>
            <a:solidFill>
              <a:srgbClr val="666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Module O</a:t>
              </a:r>
              <a:endParaRPr b="1" lang="en-US" sz="12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04" name="Rectangle 27"/>
            <p:cNvSpPr/>
            <p:nvPr/>
          </p:nvSpPr>
          <p:spPr>
            <a:xfrm>
              <a:off x="7462800" y="4819680"/>
              <a:ext cx="852480" cy="403200"/>
            </a:xfrm>
            <a:prstGeom prst="rect">
              <a:avLst/>
            </a:prstGeom>
            <a:solidFill>
              <a:srgbClr val="4747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Module N</a:t>
              </a:r>
              <a:endParaRPr b="1" lang="en-US" sz="12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05" name="Rectangle 28"/>
            <p:cNvSpPr/>
            <p:nvPr/>
          </p:nvSpPr>
          <p:spPr>
            <a:xfrm>
              <a:off x="7719840" y="4518000"/>
              <a:ext cx="852840" cy="40176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Module M</a:t>
              </a:r>
              <a:endParaRPr b="1" lang="en-US" sz="12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06" name="Rectangle 29"/>
            <p:cNvSpPr/>
            <p:nvPr/>
          </p:nvSpPr>
          <p:spPr>
            <a:xfrm>
              <a:off x="2006640" y="3191040"/>
              <a:ext cx="1303200" cy="403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Component X</a:t>
              </a:r>
              <a:endParaRPr b="1" lang="en-US" sz="12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07" name="Rectangle 30"/>
            <p:cNvSpPr/>
            <p:nvPr/>
          </p:nvSpPr>
          <p:spPr>
            <a:xfrm>
              <a:off x="5972040" y="3191040"/>
              <a:ext cx="1301760" cy="403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Component Y</a:t>
              </a:r>
              <a:endParaRPr b="1" lang="en-US" sz="12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08" name="Rectangle 31"/>
            <p:cNvSpPr/>
            <p:nvPr/>
          </p:nvSpPr>
          <p:spPr>
            <a:xfrm>
              <a:off x="3840120" y="1782720"/>
              <a:ext cx="1430280" cy="6094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80"/>
                  </a:solidFill>
                  <a:latin typeface="Arial"/>
                </a:rPr>
                <a:t>Product Z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1576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Development Strategies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813960" y="145080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development strategy is required when a system is too large to be built in one piec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must be partitioned into element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se elements must be develop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developed elements are integrated into the finished system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Development Strategies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801720" y="145080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trategy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es the smaller el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ablishes the order in which they are develop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ablishes the way in which they are integr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the strategy is appropriate and the elements are properly develop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development process will scale u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total development is the sum of the parts plus system design and integ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Some Development Strategie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801720" y="145080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y development strategies are possibl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objective is to incrementally build the system so that you can identify key problems at the earliest point in the process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example strategies are th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gressive strateg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unctional enhancement strateg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ast-path enhancement strateg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mmy strateg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15760" y="4330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Progressive Strategy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6" name="Rectangle 1027"/>
          <p:cNvSpPr/>
          <p:nvPr/>
        </p:nvSpPr>
        <p:spPr>
          <a:xfrm>
            <a:off x="812880" y="5016600"/>
            <a:ext cx="7524720" cy="8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the progressive strategy, the functions are developed in the order in which they are executed.  This permits relatively simple testing and little scaffolding or special test facilities.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</p:txBody>
      </p:sp>
      <p:grpSp>
        <p:nvGrpSpPr>
          <p:cNvPr id="217" name="Group 1028"/>
          <p:cNvGrpSpPr/>
          <p:nvPr/>
        </p:nvGrpSpPr>
        <p:grpSpPr>
          <a:xfrm>
            <a:off x="825480" y="1492200"/>
            <a:ext cx="7025040" cy="3169080"/>
            <a:chOff x="825480" y="1492200"/>
            <a:chExt cx="7025040" cy="3169080"/>
          </a:xfrm>
        </p:grpSpPr>
        <p:sp>
          <p:nvSpPr>
            <p:cNvPr id="218" name="Line 1029"/>
            <p:cNvSpPr/>
            <p:nvPr/>
          </p:nvSpPr>
          <p:spPr>
            <a:xfrm>
              <a:off x="4987800" y="3205080"/>
              <a:ext cx="552600" cy="0"/>
            </a:xfrm>
            <a:prstGeom prst="line">
              <a:avLst/>
            </a:prstGeom>
            <a:ln w="25560">
              <a:solidFill>
                <a:srgbClr val="cccc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19" name="Line 1030"/>
            <p:cNvSpPr/>
            <p:nvPr/>
          </p:nvSpPr>
          <p:spPr>
            <a:xfrm>
              <a:off x="5000760" y="4281480"/>
              <a:ext cx="549000" cy="0"/>
            </a:xfrm>
            <a:prstGeom prst="line">
              <a:avLst/>
            </a:prstGeom>
            <a:ln w="25560">
              <a:solidFill>
                <a:srgbClr val="cccc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20" name="Rectangle 1031"/>
            <p:cNvSpPr/>
            <p:nvPr/>
          </p:nvSpPr>
          <p:spPr>
            <a:xfrm>
              <a:off x="5549760" y="4019400"/>
              <a:ext cx="1687680" cy="57312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2nd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enhancement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21" name="Rectangle 1032"/>
            <p:cNvSpPr/>
            <p:nvPr/>
          </p:nvSpPr>
          <p:spPr>
            <a:xfrm>
              <a:off x="3286080" y="2938320"/>
              <a:ext cx="1687680" cy="57636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1st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enhancement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22" name="Rectangle 1033"/>
            <p:cNvSpPr/>
            <p:nvPr/>
          </p:nvSpPr>
          <p:spPr>
            <a:xfrm>
              <a:off x="3286080" y="4019400"/>
              <a:ext cx="1687680" cy="57312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1st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enhancement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23" name="Rectangle 1034"/>
            <p:cNvSpPr/>
            <p:nvPr/>
          </p:nvSpPr>
          <p:spPr>
            <a:xfrm>
              <a:off x="1511280" y="1781280"/>
              <a:ext cx="1230480" cy="57312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1st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odul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24" name="Rectangle 1035"/>
            <p:cNvSpPr/>
            <p:nvPr/>
          </p:nvSpPr>
          <p:spPr>
            <a:xfrm>
              <a:off x="1511280" y="2938320"/>
              <a:ext cx="1230480" cy="57636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1st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odul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25" name="Rectangle 1036"/>
            <p:cNvSpPr/>
            <p:nvPr/>
          </p:nvSpPr>
          <p:spPr>
            <a:xfrm>
              <a:off x="1511280" y="4019400"/>
              <a:ext cx="1230480" cy="58896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1st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odul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26" name="Line 1037"/>
            <p:cNvSpPr/>
            <p:nvPr/>
          </p:nvSpPr>
          <p:spPr>
            <a:xfrm>
              <a:off x="2739960" y="2022480"/>
              <a:ext cx="549360" cy="0"/>
            </a:xfrm>
            <a:prstGeom prst="line">
              <a:avLst/>
            </a:prstGeom>
            <a:ln w="25560">
              <a:solidFill>
                <a:srgbClr val="cccc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27" name="Line 1038"/>
            <p:cNvSpPr/>
            <p:nvPr/>
          </p:nvSpPr>
          <p:spPr>
            <a:xfrm>
              <a:off x="2749680" y="3205080"/>
              <a:ext cx="552240" cy="0"/>
            </a:xfrm>
            <a:prstGeom prst="line">
              <a:avLst/>
            </a:prstGeom>
            <a:ln w="25560">
              <a:solidFill>
                <a:srgbClr val="cccc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28" name="Line 1039"/>
            <p:cNvSpPr/>
            <p:nvPr/>
          </p:nvSpPr>
          <p:spPr>
            <a:xfrm>
              <a:off x="2762280" y="4281480"/>
              <a:ext cx="549360" cy="0"/>
            </a:xfrm>
            <a:prstGeom prst="line">
              <a:avLst/>
            </a:prstGeom>
            <a:ln w="25560">
              <a:solidFill>
                <a:srgbClr val="cccc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29" name="Line 1040"/>
            <p:cNvSpPr/>
            <p:nvPr/>
          </p:nvSpPr>
          <p:spPr>
            <a:xfrm>
              <a:off x="965160" y="2022480"/>
              <a:ext cx="550800" cy="0"/>
            </a:xfrm>
            <a:prstGeom prst="line">
              <a:avLst/>
            </a:prstGeom>
            <a:ln w="25560">
              <a:solidFill>
                <a:srgbClr val="cccc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30" name="Rectangle 1041"/>
            <p:cNvSpPr/>
            <p:nvPr/>
          </p:nvSpPr>
          <p:spPr>
            <a:xfrm>
              <a:off x="837720" y="1725480"/>
              <a:ext cx="37692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Times New Roman"/>
                </a:rPr>
                <a:t>I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31" name="Rectangle 1042"/>
            <p:cNvSpPr/>
            <p:nvPr/>
          </p:nvSpPr>
          <p:spPr>
            <a:xfrm>
              <a:off x="2853360" y="2060640"/>
              <a:ext cx="52200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Times New Roman"/>
                </a:rPr>
                <a:t>Out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32" name="Line 1043"/>
            <p:cNvSpPr/>
            <p:nvPr/>
          </p:nvSpPr>
          <p:spPr>
            <a:xfrm>
              <a:off x="976320" y="3205080"/>
              <a:ext cx="550800" cy="0"/>
            </a:xfrm>
            <a:prstGeom prst="line">
              <a:avLst/>
            </a:prstGeom>
            <a:ln w="25560">
              <a:solidFill>
                <a:srgbClr val="cccc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33" name="Rectangle 1044"/>
            <p:cNvSpPr/>
            <p:nvPr/>
          </p:nvSpPr>
          <p:spPr>
            <a:xfrm>
              <a:off x="5074560" y="3262320"/>
              <a:ext cx="52200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Times New Roman"/>
                </a:rPr>
                <a:t>Out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34" name="Line 1045"/>
            <p:cNvSpPr/>
            <p:nvPr/>
          </p:nvSpPr>
          <p:spPr>
            <a:xfrm>
              <a:off x="987480" y="4281480"/>
              <a:ext cx="549360" cy="0"/>
            </a:xfrm>
            <a:prstGeom prst="line">
              <a:avLst/>
            </a:prstGeom>
            <a:ln w="25560">
              <a:solidFill>
                <a:srgbClr val="cccc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35" name="Rectangle 1046"/>
            <p:cNvSpPr/>
            <p:nvPr/>
          </p:nvSpPr>
          <p:spPr>
            <a:xfrm>
              <a:off x="825480" y="1492200"/>
              <a:ext cx="89532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ycle 1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36" name="Rectangle 1047"/>
            <p:cNvSpPr/>
            <p:nvPr/>
          </p:nvSpPr>
          <p:spPr>
            <a:xfrm>
              <a:off x="825480" y="2625840"/>
              <a:ext cx="89532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ycle 2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37" name="Rectangle 1048"/>
            <p:cNvSpPr/>
            <p:nvPr/>
          </p:nvSpPr>
          <p:spPr>
            <a:xfrm>
              <a:off x="825480" y="3730680"/>
              <a:ext cx="89532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ycle 3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38" name="Rectangle 1049"/>
            <p:cNvSpPr/>
            <p:nvPr/>
          </p:nvSpPr>
          <p:spPr>
            <a:xfrm>
              <a:off x="837720" y="2908440"/>
              <a:ext cx="37692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Times New Roman"/>
                </a:rPr>
                <a:t>I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39" name="Rectangle 1050"/>
            <p:cNvSpPr/>
            <p:nvPr/>
          </p:nvSpPr>
          <p:spPr>
            <a:xfrm>
              <a:off x="837720" y="3981600"/>
              <a:ext cx="37692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Times New Roman"/>
                </a:rPr>
                <a:t>I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40" name="Line 1051"/>
            <p:cNvSpPr/>
            <p:nvPr/>
          </p:nvSpPr>
          <p:spPr>
            <a:xfrm>
              <a:off x="7267680" y="4300560"/>
              <a:ext cx="549000" cy="0"/>
            </a:xfrm>
            <a:prstGeom prst="line">
              <a:avLst/>
            </a:prstGeom>
            <a:ln w="25560">
              <a:solidFill>
                <a:srgbClr val="cccc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41" name="Rectangle 1052"/>
            <p:cNvSpPr/>
            <p:nvPr/>
          </p:nvSpPr>
          <p:spPr>
            <a:xfrm>
              <a:off x="7328520" y="4349880"/>
              <a:ext cx="52200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Times New Roman"/>
                </a:rPr>
                <a:t>Out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03160" y="43308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Functional Enhancemen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819000" y="5268960"/>
            <a:ext cx="7575840" cy="80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ith functional enhancement, a base system must first be built and then enhanced.  The large size of the base system often requires a different strategy for its development.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grpSp>
        <p:nvGrpSpPr>
          <p:cNvPr id="244" name="Group 4"/>
          <p:cNvGrpSpPr/>
          <p:nvPr/>
        </p:nvGrpSpPr>
        <p:grpSpPr>
          <a:xfrm>
            <a:off x="928800" y="1521000"/>
            <a:ext cx="5425920" cy="3335040"/>
            <a:chOff x="928800" y="1521000"/>
            <a:chExt cx="5425920" cy="3335040"/>
          </a:xfrm>
        </p:grpSpPr>
        <p:sp>
          <p:nvSpPr>
            <p:cNvPr id="245" name="Line 5"/>
            <p:cNvSpPr/>
            <p:nvPr/>
          </p:nvSpPr>
          <p:spPr>
            <a:xfrm>
              <a:off x="2274840" y="2500200"/>
              <a:ext cx="453960" cy="360360"/>
            </a:xfrm>
            <a:prstGeom prst="line">
              <a:avLst/>
            </a:prstGeom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46" name="Line 6"/>
            <p:cNvSpPr/>
            <p:nvPr/>
          </p:nvSpPr>
          <p:spPr>
            <a:xfrm flipH="1">
              <a:off x="4630320" y="2514600"/>
              <a:ext cx="469800" cy="285840"/>
            </a:xfrm>
            <a:prstGeom prst="line">
              <a:avLst/>
            </a:prstGeom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47" name="Line 7"/>
            <p:cNvSpPr/>
            <p:nvPr/>
          </p:nvSpPr>
          <p:spPr>
            <a:xfrm flipH="1" flipV="1">
              <a:off x="4641840" y="3552480"/>
              <a:ext cx="512640" cy="312840"/>
            </a:xfrm>
            <a:prstGeom prst="line">
              <a:avLst/>
            </a:prstGeom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48" name="Line 8"/>
            <p:cNvSpPr/>
            <p:nvPr/>
          </p:nvSpPr>
          <p:spPr>
            <a:xfrm flipV="1">
              <a:off x="2228760" y="3598560"/>
              <a:ext cx="528840" cy="282600"/>
            </a:xfrm>
            <a:prstGeom prst="line">
              <a:avLst/>
            </a:prstGeom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49" name="Rectangle 9"/>
            <p:cNvSpPr/>
            <p:nvPr/>
          </p:nvSpPr>
          <p:spPr>
            <a:xfrm>
              <a:off x="928800" y="3881520"/>
              <a:ext cx="1842840" cy="974520"/>
            </a:xfrm>
            <a:prstGeom prst="rect">
              <a:avLst/>
            </a:prstGeom>
            <a:solidFill>
              <a:srgbClr val="3399ff"/>
            </a:solidFill>
            <a:ln w="255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4th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functional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enhancement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50" name="Rectangle 10"/>
            <p:cNvSpPr/>
            <p:nvPr/>
          </p:nvSpPr>
          <p:spPr>
            <a:xfrm>
              <a:off x="4511520" y="3881520"/>
              <a:ext cx="1843200" cy="974520"/>
            </a:xfrm>
            <a:prstGeom prst="rect">
              <a:avLst/>
            </a:prstGeom>
            <a:solidFill>
              <a:srgbClr val="3399ff"/>
            </a:solidFill>
            <a:ln w="255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2nd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functional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enhancement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51" name="Rectangle 11"/>
            <p:cNvSpPr/>
            <p:nvPr/>
          </p:nvSpPr>
          <p:spPr>
            <a:xfrm>
              <a:off x="4511520" y="1521000"/>
              <a:ext cx="1843200" cy="974520"/>
            </a:xfrm>
            <a:prstGeom prst="rect">
              <a:avLst/>
            </a:prstGeom>
            <a:solidFill>
              <a:srgbClr val="3399ff"/>
            </a:solidFill>
            <a:ln w="255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3rd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functional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enhancement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52" name="Oval 12"/>
            <p:cNvSpPr/>
            <p:nvPr/>
          </p:nvSpPr>
          <p:spPr>
            <a:xfrm>
              <a:off x="2516040" y="2571840"/>
              <a:ext cx="2351160" cy="125244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Core system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53" name="Rectangle 13"/>
            <p:cNvSpPr/>
            <p:nvPr/>
          </p:nvSpPr>
          <p:spPr>
            <a:xfrm>
              <a:off x="928800" y="1521000"/>
              <a:ext cx="1842840" cy="974520"/>
            </a:xfrm>
            <a:prstGeom prst="rect">
              <a:avLst/>
            </a:prstGeom>
            <a:solidFill>
              <a:srgbClr val="3399ff"/>
            </a:solidFill>
            <a:ln w="255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1st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functional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enhancement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03160" y="43308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Fast-Path Enhancemen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5127480" y="1482840"/>
            <a:ext cx="3537000" cy="34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fast-path enhancement,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85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high-performance loop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85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 built first, debugged, and measured.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85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85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its performance is 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85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itable, functional 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85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hancements are made.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85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85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ach enhancement is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85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asured to ensure that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85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rformance is still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85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in specifications.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</p:txBody>
      </p:sp>
      <p:grpSp>
        <p:nvGrpSpPr>
          <p:cNvPr id="256" name="Group 4"/>
          <p:cNvGrpSpPr/>
          <p:nvPr/>
        </p:nvGrpSpPr>
        <p:grpSpPr>
          <a:xfrm>
            <a:off x="1003320" y="1547640"/>
            <a:ext cx="3862440" cy="4426200"/>
            <a:chOff x="1003320" y="1547640"/>
            <a:chExt cx="3862440" cy="4426200"/>
          </a:xfrm>
        </p:grpSpPr>
        <p:sp>
          <p:nvSpPr>
            <p:cNvPr id="257" name="Line 5"/>
            <p:cNvSpPr/>
            <p:nvPr/>
          </p:nvSpPr>
          <p:spPr>
            <a:xfrm>
              <a:off x="1003320" y="3530520"/>
              <a:ext cx="507960" cy="0"/>
            </a:xfrm>
            <a:prstGeom prst="line">
              <a:avLst/>
            </a:prstGeom>
            <a:ln w="25560">
              <a:solidFill>
                <a:srgbClr val="cccc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58" name="Line 6"/>
            <p:cNvSpPr/>
            <p:nvPr/>
          </p:nvSpPr>
          <p:spPr>
            <a:xfrm flipV="1">
              <a:off x="1787400" y="2953800"/>
              <a:ext cx="246240" cy="427320"/>
            </a:xfrm>
            <a:prstGeom prst="line">
              <a:avLst/>
            </a:prstGeom>
            <a:ln w="25560">
              <a:solidFill>
                <a:srgbClr val="cccc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59" name="Line 7"/>
            <p:cNvSpPr/>
            <p:nvPr/>
          </p:nvSpPr>
          <p:spPr>
            <a:xfrm>
              <a:off x="3157560" y="2443320"/>
              <a:ext cx="507960" cy="250560"/>
            </a:xfrm>
            <a:prstGeom prst="line">
              <a:avLst/>
            </a:prstGeom>
            <a:ln w="25560">
              <a:solidFill>
                <a:srgbClr val="cccc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60" name="Line 8"/>
            <p:cNvSpPr/>
            <p:nvPr/>
          </p:nvSpPr>
          <p:spPr>
            <a:xfrm flipH="1">
              <a:off x="4014360" y="3745080"/>
              <a:ext cx="149400" cy="492120"/>
            </a:xfrm>
            <a:prstGeom prst="line">
              <a:avLst/>
            </a:prstGeom>
            <a:ln w="25560">
              <a:solidFill>
                <a:srgbClr val="cccc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61" name="Line 9"/>
            <p:cNvSpPr/>
            <p:nvPr/>
          </p:nvSpPr>
          <p:spPr>
            <a:xfrm flipH="1" flipV="1">
              <a:off x="2141640" y="4449240"/>
              <a:ext cx="573120" cy="217800"/>
            </a:xfrm>
            <a:prstGeom prst="line">
              <a:avLst/>
            </a:prstGeom>
            <a:ln w="25560">
              <a:solidFill>
                <a:srgbClr val="cccc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62" name="Rectangle 10"/>
            <p:cNvSpPr/>
            <p:nvPr/>
          </p:nvSpPr>
          <p:spPr>
            <a:xfrm>
              <a:off x="1157400" y="1547640"/>
              <a:ext cx="1190520" cy="49860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st</a:t>
              </a:r>
              <a:endParaRPr b="1" lang="en-US" sz="12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enhancement</a:t>
              </a:r>
              <a:endParaRPr b="1" lang="en-US" sz="12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63" name="Rectangle 11"/>
            <p:cNvSpPr/>
            <p:nvPr/>
          </p:nvSpPr>
          <p:spPr>
            <a:xfrm>
              <a:off x="2355840" y="5475240"/>
              <a:ext cx="1190520" cy="4986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2nd</a:t>
              </a:r>
              <a:endParaRPr b="1" lang="en-US" sz="12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enhancement</a:t>
              </a:r>
              <a:endParaRPr b="1" lang="en-US" sz="12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64" name="Rectangle 12"/>
            <p:cNvSpPr/>
            <p:nvPr/>
          </p:nvSpPr>
          <p:spPr>
            <a:xfrm>
              <a:off x="2384280" y="3182760"/>
              <a:ext cx="1190880" cy="4986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3rd</a:t>
              </a:r>
              <a:endParaRPr b="1" lang="en-US" sz="12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enhancement</a:t>
              </a:r>
              <a:endParaRPr b="1" lang="en-US" sz="12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65" name="Rectangle 13"/>
            <p:cNvSpPr/>
            <p:nvPr/>
          </p:nvSpPr>
          <p:spPr>
            <a:xfrm>
              <a:off x="3676680" y="1547640"/>
              <a:ext cx="1189080" cy="4986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4th</a:t>
              </a:r>
              <a:endParaRPr b="1" lang="en-US" sz="12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enhancement</a:t>
              </a:r>
              <a:endParaRPr b="1" lang="en-US" sz="12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66" name="Line 14"/>
            <p:cNvSpPr/>
            <p:nvPr/>
          </p:nvSpPr>
          <p:spPr>
            <a:xfrm>
              <a:off x="1736640" y="2073240"/>
              <a:ext cx="0" cy="1279440"/>
            </a:xfrm>
            <a:prstGeom prst="line">
              <a:avLst/>
            </a:prstGeom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67" name="Line 15"/>
            <p:cNvSpPr/>
            <p:nvPr/>
          </p:nvSpPr>
          <p:spPr>
            <a:xfrm>
              <a:off x="4276800" y="2057400"/>
              <a:ext cx="0" cy="1392120"/>
            </a:xfrm>
            <a:prstGeom prst="line">
              <a:avLst/>
            </a:prstGeom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68" name="Line 16"/>
            <p:cNvSpPr/>
            <p:nvPr/>
          </p:nvSpPr>
          <p:spPr>
            <a:xfrm flipH="1">
              <a:off x="2967120" y="2614680"/>
              <a:ext cx="1440" cy="546120"/>
            </a:xfrm>
            <a:prstGeom prst="line">
              <a:avLst/>
            </a:prstGeom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69" name="Line 17"/>
            <p:cNvSpPr/>
            <p:nvPr/>
          </p:nvSpPr>
          <p:spPr>
            <a:xfrm>
              <a:off x="2965320" y="4889520"/>
              <a:ext cx="0" cy="557280"/>
            </a:xfrm>
            <a:prstGeom prst="line">
              <a:avLst/>
            </a:prstGeom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70" name="Line 18"/>
            <p:cNvSpPr/>
            <p:nvPr/>
          </p:nvSpPr>
          <p:spPr>
            <a:xfrm flipV="1">
              <a:off x="2206800" y="2440080"/>
              <a:ext cx="512640" cy="218880"/>
            </a:xfrm>
            <a:prstGeom prst="line">
              <a:avLst/>
            </a:prstGeom>
            <a:ln w="25560">
              <a:solidFill>
                <a:srgbClr val="cccc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71" name="Line 19"/>
            <p:cNvSpPr/>
            <p:nvPr/>
          </p:nvSpPr>
          <p:spPr>
            <a:xfrm>
              <a:off x="3929040" y="2957400"/>
              <a:ext cx="336600" cy="422280"/>
            </a:xfrm>
            <a:prstGeom prst="line">
              <a:avLst/>
            </a:prstGeom>
            <a:ln w="25560">
              <a:solidFill>
                <a:srgbClr val="cccc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72" name="Line 20"/>
            <p:cNvSpPr/>
            <p:nvPr/>
          </p:nvSpPr>
          <p:spPr>
            <a:xfrm flipH="1">
              <a:off x="3211200" y="4500720"/>
              <a:ext cx="453960" cy="218880"/>
            </a:xfrm>
            <a:prstGeom prst="line">
              <a:avLst/>
            </a:prstGeom>
            <a:ln w="25560">
              <a:solidFill>
                <a:srgbClr val="cccc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73" name="Line 21"/>
            <p:cNvSpPr/>
            <p:nvPr/>
          </p:nvSpPr>
          <p:spPr>
            <a:xfrm flipH="1" flipV="1">
              <a:off x="1755720" y="3678120"/>
              <a:ext cx="277920" cy="641520"/>
            </a:xfrm>
            <a:prstGeom prst="line">
              <a:avLst/>
            </a:prstGeom>
            <a:ln w="25560">
              <a:solidFill>
                <a:srgbClr val="cccc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74" name="Oval 22"/>
            <p:cNvSpPr/>
            <p:nvPr/>
          </p:nvSpPr>
          <p:spPr>
            <a:xfrm>
              <a:off x="1577880" y="3381480"/>
              <a:ext cx="360360" cy="344520"/>
            </a:xfrm>
            <a:prstGeom prst="ellipse">
              <a:avLst/>
            </a:prstGeom>
            <a:solidFill>
              <a:srgbClr val="3399ff"/>
            </a:solidFill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75" name="Oval 23"/>
            <p:cNvSpPr/>
            <p:nvPr/>
          </p:nvSpPr>
          <p:spPr>
            <a:xfrm>
              <a:off x="1908000" y="2597040"/>
              <a:ext cx="385920" cy="370080"/>
            </a:xfrm>
            <a:prstGeom prst="ellipse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Arial"/>
                </a:rPr>
                <a:t>b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76" name="Oval 24"/>
            <p:cNvSpPr/>
            <p:nvPr/>
          </p:nvSpPr>
          <p:spPr>
            <a:xfrm>
              <a:off x="2778120" y="2266920"/>
              <a:ext cx="360360" cy="344520"/>
            </a:xfrm>
            <a:prstGeom prst="ellipse">
              <a:avLst/>
            </a:prstGeom>
            <a:solidFill>
              <a:srgbClr val="3399ff"/>
            </a:solidFill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Arial"/>
                </a:rPr>
                <a:t>c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77" name="Oval 25"/>
            <p:cNvSpPr/>
            <p:nvPr/>
          </p:nvSpPr>
          <p:spPr>
            <a:xfrm>
              <a:off x="3622680" y="2597040"/>
              <a:ext cx="385920" cy="370080"/>
            </a:xfrm>
            <a:prstGeom prst="ellipse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Arial"/>
                </a:rPr>
                <a:t>d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78" name="Oval 26"/>
            <p:cNvSpPr/>
            <p:nvPr/>
          </p:nvSpPr>
          <p:spPr>
            <a:xfrm>
              <a:off x="4064040" y="3381480"/>
              <a:ext cx="360360" cy="344520"/>
            </a:xfrm>
            <a:prstGeom prst="ellipse">
              <a:avLst/>
            </a:prstGeom>
            <a:solidFill>
              <a:srgbClr val="3399ff"/>
            </a:solidFill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Arial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79" name="Oval 27"/>
            <p:cNvSpPr/>
            <p:nvPr/>
          </p:nvSpPr>
          <p:spPr>
            <a:xfrm>
              <a:off x="1908000" y="4140360"/>
              <a:ext cx="385920" cy="369720"/>
            </a:xfrm>
            <a:prstGeom prst="ellipse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Arial"/>
                </a:rPr>
                <a:t>h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80" name="Oval 28"/>
            <p:cNvSpPr/>
            <p:nvPr/>
          </p:nvSpPr>
          <p:spPr>
            <a:xfrm>
              <a:off x="2778120" y="4495680"/>
              <a:ext cx="360360" cy="344520"/>
            </a:xfrm>
            <a:prstGeom prst="ellipse">
              <a:avLst/>
            </a:prstGeom>
            <a:solidFill>
              <a:srgbClr val="3399ff"/>
            </a:solidFill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81" name="Oval 29"/>
            <p:cNvSpPr/>
            <p:nvPr/>
          </p:nvSpPr>
          <p:spPr>
            <a:xfrm>
              <a:off x="3622680" y="4140360"/>
              <a:ext cx="385920" cy="369720"/>
            </a:xfrm>
            <a:prstGeom prst="ellipse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Arial"/>
                </a:rPr>
                <a:t>f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            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pic>
        <p:nvPicPr>
          <p:cNvPr id="157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03160" y="43308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Dummy Strategy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3" name="Oval 3"/>
          <p:cNvSpPr/>
          <p:nvPr/>
        </p:nvSpPr>
        <p:spPr>
          <a:xfrm>
            <a:off x="3414600" y="2963880"/>
            <a:ext cx="352440" cy="30492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B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84" name="Oval 4"/>
          <p:cNvSpPr/>
          <p:nvPr/>
        </p:nvSpPr>
        <p:spPr>
          <a:xfrm>
            <a:off x="3987720" y="2963880"/>
            <a:ext cx="352440" cy="30492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C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85" name="Line 5"/>
          <p:cNvSpPr/>
          <p:nvPr/>
        </p:nvSpPr>
        <p:spPr>
          <a:xfrm flipH="1">
            <a:off x="2574720" y="2419200"/>
            <a:ext cx="811080" cy="113364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86" name="Line 6"/>
          <p:cNvSpPr/>
          <p:nvPr/>
        </p:nvSpPr>
        <p:spPr>
          <a:xfrm>
            <a:off x="3611520" y="2476440"/>
            <a:ext cx="0" cy="47628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87" name="Line 7"/>
          <p:cNvSpPr/>
          <p:nvPr/>
        </p:nvSpPr>
        <p:spPr>
          <a:xfrm>
            <a:off x="3835440" y="2435400"/>
            <a:ext cx="299880" cy="54900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88" name="Oval 8"/>
          <p:cNvSpPr/>
          <p:nvPr/>
        </p:nvSpPr>
        <p:spPr>
          <a:xfrm>
            <a:off x="3159000" y="1808280"/>
            <a:ext cx="922320" cy="649080"/>
          </a:xfrm>
          <a:prstGeom prst="ellipse">
            <a:avLst/>
          </a:prstGeom>
          <a:noFill/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re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89" name="Rectangle 9"/>
          <p:cNvSpPr/>
          <p:nvPr/>
        </p:nvSpPr>
        <p:spPr>
          <a:xfrm>
            <a:off x="2379600" y="3494160"/>
            <a:ext cx="836640" cy="43344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Function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A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90" name="Rectangle 10"/>
          <p:cNvSpPr/>
          <p:nvPr/>
        </p:nvSpPr>
        <p:spPr>
          <a:xfrm>
            <a:off x="833400" y="4680000"/>
            <a:ext cx="593712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ith the dummy strategy, a core system is built first, with dummy code substituted for all or most of the system’s functions.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85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85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n, these dummies are gradually replaced with the full functions as they are developed.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91" name="Oval 11"/>
          <p:cNvSpPr/>
          <p:nvPr/>
        </p:nvSpPr>
        <p:spPr>
          <a:xfrm>
            <a:off x="933480" y="2968560"/>
            <a:ext cx="353880" cy="30492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A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92" name="Oval 12"/>
          <p:cNvSpPr/>
          <p:nvPr/>
        </p:nvSpPr>
        <p:spPr>
          <a:xfrm>
            <a:off x="1530360" y="2963880"/>
            <a:ext cx="352440" cy="30492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B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93" name="Oval 13"/>
          <p:cNvSpPr/>
          <p:nvPr/>
        </p:nvSpPr>
        <p:spPr>
          <a:xfrm>
            <a:off x="2103480" y="2963880"/>
            <a:ext cx="353880" cy="30492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C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94" name="Line 14"/>
          <p:cNvSpPr/>
          <p:nvPr/>
        </p:nvSpPr>
        <p:spPr>
          <a:xfrm flipH="1">
            <a:off x="1125000" y="2427120"/>
            <a:ext cx="411480" cy="54144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1728720" y="2476440"/>
            <a:ext cx="0" cy="47628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96" name="Line 16"/>
          <p:cNvSpPr/>
          <p:nvPr/>
        </p:nvSpPr>
        <p:spPr>
          <a:xfrm>
            <a:off x="1943280" y="2443320"/>
            <a:ext cx="307800" cy="54108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97" name="Oval 17"/>
          <p:cNvSpPr/>
          <p:nvPr/>
        </p:nvSpPr>
        <p:spPr>
          <a:xfrm>
            <a:off x="1274760" y="1808280"/>
            <a:ext cx="922320" cy="649080"/>
          </a:xfrm>
          <a:prstGeom prst="ellipse">
            <a:avLst/>
          </a:prstGeom>
          <a:noFill/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re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98" name="Line 18"/>
          <p:cNvSpPr/>
          <p:nvPr/>
        </p:nvSpPr>
        <p:spPr>
          <a:xfrm>
            <a:off x="5510160" y="2484360"/>
            <a:ext cx="0" cy="155268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99" name="Rectangle 19"/>
          <p:cNvSpPr/>
          <p:nvPr/>
        </p:nvSpPr>
        <p:spPr>
          <a:xfrm>
            <a:off x="5064120" y="4013280"/>
            <a:ext cx="836640" cy="4348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Function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B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00" name="Line 20"/>
          <p:cNvSpPr/>
          <p:nvPr/>
        </p:nvSpPr>
        <p:spPr>
          <a:xfrm flipH="1">
            <a:off x="4460400" y="2433600"/>
            <a:ext cx="825480" cy="111924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01" name="Line 21"/>
          <p:cNvSpPr/>
          <p:nvPr/>
        </p:nvSpPr>
        <p:spPr>
          <a:xfrm>
            <a:off x="5713560" y="2435400"/>
            <a:ext cx="307800" cy="54900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02" name="Oval 22"/>
          <p:cNvSpPr/>
          <p:nvPr/>
        </p:nvSpPr>
        <p:spPr>
          <a:xfrm>
            <a:off x="5045040" y="1808280"/>
            <a:ext cx="922320" cy="649080"/>
          </a:xfrm>
          <a:prstGeom prst="ellipse">
            <a:avLst/>
          </a:prstGeom>
          <a:noFill/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re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03" name="Rectangle 23"/>
          <p:cNvSpPr/>
          <p:nvPr/>
        </p:nvSpPr>
        <p:spPr>
          <a:xfrm>
            <a:off x="4265640" y="3494160"/>
            <a:ext cx="836640" cy="43344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Function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A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04" name="Oval 24"/>
          <p:cNvSpPr/>
          <p:nvPr/>
        </p:nvSpPr>
        <p:spPr>
          <a:xfrm>
            <a:off x="5873760" y="2963880"/>
            <a:ext cx="353880" cy="30492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C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05" name="Rectangle 25"/>
          <p:cNvSpPr/>
          <p:nvPr/>
        </p:nvSpPr>
        <p:spPr>
          <a:xfrm>
            <a:off x="7877160" y="4527720"/>
            <a:ext cx="836640" cy="4348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Function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C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06" name="Line 26"/>
          <p:cNvSpPr/>
          <p:nvPr/>
        </p:nvSpPr>
        <p:spPr>
          <a:xfrm>
            <a:off x="7481880" y="2484360"/>
            <a:ext cx="0" cy="155268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07" name="Rectangle 27"/>
          <p:cNvSpPr/>
          <p:nvPr/>
        </p:nvSpPr>
        <p:spPr>
          <a:xfrm>
            <a:off x="7035840" y="4013280"/>
            <a:ext cx="836640" cy="4348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Function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B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08" name="Line 28"/>
          <p:cNvSpPr/>
          <p:nvPr/>
        </p:nvSpPr>
        <p:spPr>
          <a:xfrm flipH="1">
            <a:off x="6434280" y="2441520"/>
            <a:ext cx="830160" cy="111132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09" name="Line 29"/>
          <p:cNvSpPr/>
          <p:nvPr/>
        </p:nvSpPr>
        <p:spPr>
          <a:xfrm>
            <a:off x="7684920" y="2435400"/>
            <a:ext cx="621000" cy="206028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10" name="Oval 30"/>
          <p:cNvSpPr/>
          <p:nvPr/>
        </p:nvSpPr>
        <p:spPr>
          <a:xfrm>
            <a:off x="7016760" y="1808280"/>
            <a:ext cx="922320" cy="649080"/>
          </a:xfrm>
          <a:prstGeom prst="ellipse">
            <a:avLst/>
          </a:prstGeom>
          <a:noFill/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re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11" name="Rectangle 31"/>
          <p:cNvSpPr/>
          <p:nvPr/>
        </p:nvSpPr>
        <p:spPr>
          <a:xfrm>
            <a:off x="6237360" y="3494160"/>
            <a:ext cx="836640" cy="43344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Function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A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Cyclic PSP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801720" y="145080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cyclic PSP (PSP3) provides a framework for using a cyclic development strategy to develop modest-sized program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PSP requirements, planning, and postmortem steps are done once for the total program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igh-level design partitions the program into smaller elements and establishes the development strategy which determines the cyclic step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development step contains multiple PSP2.1-like cycl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03160" y="43308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Cyclic PSP Flow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5" name="Rectangle 1027"/>
          <p:cNvSpPr/>
          <p:nvPr/>
        </p:nvSpPr>
        <p:spPr>
          <a:xfrm>
            <a:off x="2117880" y="2255760"/>
            <a:ext cx="1618920" cy="461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igh-level</a:t>
            </a:r>
            <a:endParaRPr b="1" lang="en-US" sz="12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esign (HLD)</a:t>
            </a:r>
            <a:endParaRPr b="1" lang="en-US" sz="12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16" name="Rectangle 1028"/>
          <p:cNvSpPr/>
          <p:nvPr/>
        </p:nvSpPr>
        <p:spPr>
          <a:xfrm>
            <a:off x="2117880" y="1560600"/>
            <a:ext cx="1618920" cy="4633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equirements</a:t>
            </a:r>
            <a:endParaRPr b="1" lang="en-US" sz="12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nd planning</a:t>
            </a:r>
            <a:endParaRPr b="1" lang="en-US" sz="12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17" name="Rectangle 1029"/>
          <p:cNvSpPr/>
          <p:nvPr/>
        </p:nvSpPr>
        <p:spPr>
          <a:xfrm>
            <a:off x="2117880" y="2949480"/>
            <a:ext cx="1618920" cy="4636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LD</a:t>
            </a:r>
            <a:endParaRPr b="1" lang="en-US" sz="12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eview</a:t>
            </a:r>
            <a:endParaRPr b="1" lang="en-US" sz="12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18" name="Rectangle 1030"/>
          <p:cNvSpPr/>
          <p:nvPr/>
        </p:nvSpPr>
        <p:spPr>
          <a:xfrm>
            <a:off x="2117880" y="5032440"/>
            <a:ext cx="1618920" cy="4633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tegration</a:t>
            </a:r>
            <a:endParaRPr b="1" lang="en-US" sz="12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ystem test</a:t>
            </a:r>
            <a:endParaRPr b="1" lang="en-US" sz="12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19" name="Rectangle 1031"/>
          <p:cNvSpPr/>
          <p:nvPr/>
        </p:nvSpPr>
        <p:spPr>
          <a:xfrm>
            <a:off x="2117880" y="4338720"/>
            <a:ext cx="1618920" cy="461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ostmortem</a:t>
            </a:r>
            <a:endParaRPr b="1" lang="en-US" sz="12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20" name="Rectangle 1032"/>
          <p:cNvSpPr/>
          <p:nvPr/>
        </p:nvSpPr>
        <p:spPr>
          <a:xfrm>
            <a:off x="2117880" y="3645000"/>
            <a:ext cx="1618920" cy="4633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yclic</a:t>
            </a:r>
            <a:endParaRPr b="1" lang="en-US" sz="12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evelopment</a:t>
            </a:r>
            <a:endParaRPr b="1" lang="en-US" sz="12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21" name="Line 1033"/>
          <p:cNvSpPr/>
          <p:nvPr/>
        </p:nvSpPr>
        <p:spPr>
          <a:xfrm>
            <a:off x="2886120" y="2038320"/>
            <a:ext cx="3240" cy="217440"/>
          </a:xfrm>
          <a:prstGeom prst="line">
            <a:avLst/>
          </a:prstGeom>
          <a:ln w="25560">
            <a:solidFill>
              <a:srgbClr val="cc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22" name="Line 1034"/>
          <p:cNvSpPr/>
          <p:nvPr/>
        </p:nvSpPr>
        <p:spPr>
          <a:xfrm>
            <a:off x="2886120" y="2733840"/>
            <a:ext cx="3240" cy="215640"/>
          </a:xfrm>
          <a:prstGeom prst="line">
            <a:avLst/>
          </a:prstGeom>
          <a:ln w="25560">
            <a:solidFill>
              <a:srgbClr val="cc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23" name="Line 1035"/>
          <p:cNvSpPr/>
          <p:nvPr/>
        </p:nvSpPr>
        <p:spPr>
          <a:xfrm>
            <a:off x="2886120" y="3425760"/>
            <a:ext cx="3240" cy="219240"/>
          </a:xfrm>
          <a:prstGeom prst="line">
            <a:avLst/>
          </a:prstGeom>
          <a:ln w="25560">
            <a:solidFill>
              <a:srgbClr val="cc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24" name="Line 1036"/>
          <p:cNvSpPr/>
          <p:nvPr/>
        </p:nvSpPr>
        <p:spPr>
          <a:xfrm>
            <a:off x="2886120" y="4121280"/>
            <a:ext cx="3240" cy="217440"/>
          </a:xfrm>
          <a:prstGeom prst="line">
            <a:avLst/>
          </a:prstGeom>
          <a:ln w="25560">
            <a:solidFill>
              <a:srgbClr val="cc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25" name="Line 1037"/>
          <p:cNvSpPr/>
          <p:nvPr/>
        </p:nvSpPr>
        <p:spPr>
          <a:xfrm>
            <a:off x="2886120" y="4816440"/>
            <a:ext cx="3240" cy="216000"/>
          </a:xfrm>
          <a:prstGeom prst="line">
            <a:avLst/>
          </a:prstGeom>
          <a:ln w="25560">
            <a:solidFill>
              <a:srgbClr val="cc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26" name="Line 1038"/>
          <p:cNvSpPr/>
          <p:nvPr/>
        </p:nvSpPr>
        <p:spPr>
          <a:xfrm>
            <a:off x="1316160" y="1916280"/>
            <a:ext cx="672840" cy="0"/>
          </a:xfrm>
          <a:prstGeom prst="line">
            <a:avLst/>
          </a:prstGeom>
          <a:ln w="1260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27" name="Line 1039"/>
          <p:cNvSpPr/>
          <p:nvPr/>
        </p:nvSpPr>
        <p:spPr>
          <a:xfrm flipH="1">
            <a:off x="1316160" y="5308560"/>
            <a:ext cx="706320" cy="0"/>
          </a:xfrm>
          <a:prstGeom prst="line">
            <a:avLst/>
          </a:prstGeom>
          <a:ln w="1260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28" name="Line 1040"/>
          <p:cNvSpPr/>
          <p:nvPr/>
        </p:nvSpPr>
        <p:spPr>
          <a:xfrm flipH="1" flipV="1">
            <a:off x="3792240" y="3930480"/>
            <a:ext cx="1074600" cy="1766880"/>
          </a:xfrm>
          <a:prstGeom prst="line">
            <a:avLst/>
          </a:prstGeom>
          <a:ln w="1260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29" name="Line 1041"/>
          <p:cNvSpPr/>
          <p:nvPr/>
        </p:nvSpPr>
        <p:spPr>
          <a:xfrm flipV="1">
            <a:off x="3792600" y="1384200"/>
            <a:ext cx="1150920" cy="2230560"/>
          </a:xfrm>
          <a:prstGeom prst="line">
            <a:avLst/>
          </a:prstGeom>
          <a:ln w="1260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30" name="Arc 1042"/>
          <p:cNvSpPr/>
          <p:nvPr/>
        </p:nvSpPr>
        <p:spPr>
          <a:xfrm>
            <a:off x="6681960" y="3473280"/>
            <a:ext cx="969840" cy="2743200"/>
          </a:xfrm>
          <a:custGeom>
            <a:avLst/>
            <a:gdLst/>
            <a:ahLst/>
            <a:rect l="l" t="t" r="r" b="b"/>
            <a:pathLst>
              <a:path fill="none" w="21778" h="21600">
                <a:moveTo>
                  <a:pt x="21777" y="37"/>
                </a:moveTo>
                <a:cubicBezTo>
                  <a:pt x="21757" y="11952"/>
                  <a:pt x="12092" y="21599"/>
                  <a:pt x="178" y="21600"/>
                </a:cubicBezTo>
                <a:cubicBezTo>
                  <a:pt x="118" y="21600"/>
                  <a:pt x="59" y="21599"/>
                  <a:pt x="-1" y="21599"/>
                </a:cubicBezTo>
              </a:path>
              <a:path stroke="0" w="21778" h="21600">
                <a:moveTo>
                  <a:pt x="21777" y="37"/>
                </a:moveTo>
                <a:cubicBezTo>
                  <a:pt x="21757" y="11952"/>
                  <a:pt x="12092" y="21599"/>
                  <a:pt x="178" y="21600"/>
                </a:cubicBezTo>
                <a:cubicBezTo>
                  <a:pt x="118" y="21600"/>
                  <a:pt x="59" y="21599"/>
                  <a:pt x="-1" y="21599"/>
                </a:cubicBezTo>
                <a:lnTo>
                  <a:pt x="178" y="0"/>
                </a:lnTo>
                <a:lnTo>
                  <a:pt x="21777" y="37"/>
                </a:lnTo>
                <a:close/>
              </a:path>
            </a:pathLst>
          </a:custGeom>
          <a:noFill/>
          <a:ln cap="rnd" w="12600">
            <a:solidFill>
              <a:srgbClr val="ccccff"/>
            </a:solidFill>
            <a:round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31" name="Arc 1043"/>
          <p:cNvSpPr/>
          <p:nvPr/>
        </p:nvSpPr>
        <p:spPr>
          <a:xfrm>
            <a:off x="6686640" y="1628640"/>
            <a:ext cx="961920" cy="18529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cap="rnd" w="1260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32" name="Rectangle 1044"/>
          <p:cNvSpPr/>
          <p:nvPr/>
        </p:nvSpPr>
        <p:spPr>
          <a:xfrm>
            <a:off x="846000" y="1562040"/>
            <a:ext cx="120564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pecifications</a:t>
            </a:r>
            <a:endParaRPr b="1" lang="en-US" sz="12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33" name="Rectangle 1045"/>
          <p:cNvSpPr/>
          <p:nvPr/>
        </p:nvSpPr>
        <p:spPr>
          <a:xfrm>
            <a:off x="871200" y="4987800"/>
            <a:ext cx="74520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duct</a:t>
            </a:r>
            <a:endParaRPr b="1" lang="en-US" sz="12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34" name="Line 1046"/>
          <p:cNvSpPr/>
          <p:nvPr/>
        </p:nvSpPr>
        <p:spPr>
          <a:xfrm flipV="1">
            <a:off x="3792600" y="2155320"/>
            <a:ext cx="1074600" cy="1692360"/>
          </a:xfrm>
          <a:prstGeom prst="line">
            <a:avLst/>
          </a:prstGeom>
          <a:ln w="1260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35" name="Line 1047"/>
          <p:cNvSpPr/>
          <p:nvPr/>
        </p:nvSpPr>
        <p:spPr>
          <a:xfrm>
            <a:off x="3795840" y="4165560"/>
            <a:ext cx="996840" cy="2152800"/>
          </a:xfrm>
          <a:prstGeom prst="line">
            <a:avLst/>
          </a:prstGeom>
          <a:ln w="12600">
            <a:solidFill>
              <a:srgbClr val="cccc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36" name="Oval 1048"/>
          <p:cNvSpPr/>
          <p:nvPr/>
        </p:nvSpPr>
        <p:spPr>
          <a:xfrm>
            <a:off x="4587840" y="2116080"/>
            <a:ext cx="55440" cy="55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37" name="Oval 1049"/>
          <p:cNvSpPr/>
          <p:nvPr/>
        </p:nvSpPr>
        <p:spPr>
          <a:xfrm>
            <a:off x="4579920" y="2270160"/>
            <a:ext cx="73080" cy="57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grpSp>
        <p:nvGrpSpPr>
          <p:cNvPr id="338" name="Group 1050"/>
          <p:cNvGrpSpPr/>
          <p:nvPr/>
        </p:nvGrpSpPr>
        <p:grpSpPr>
          <a:xfrm>
            <a:off x="4971960" y="1560600"/>
            <a:ext cx="1620720" cy="4628880"/>
            <a:chOff x="4971960" y="1560600"/>
            <a:chExt cx="1620720" cy="4628880"/>
          </a:xfrm>
        </p:grpSpPr>
        <p:sp>
          <p:nvSpPr>
            <p:cNvPr id="339" name="Rectangle 1051"/>
            <p:cNvSpPr/>
            <p:nvPr/>
          </p:nvSpPr>
          <p:spPr>
            <a:xfrm>
              <a:off x="4971960" y="2255760"/>
              <a:ext cx="1620720" cy="4618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Detailed design and</a:t>
              </a:r>
              <a:endParaRPr b="1" lang="en-US" sz="11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design review</a:t>
              </a:r>
              <a:endParaRPr b="1" lang="en-US" sz="11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40" name="Rectangle 1052"/>
            <p:cNvSpPr/>
            <p:nvPr/>
          </p:nvSpPr>
          <p:spPr>
            <a:xfrm>
              <a:off x="4971960" y="1560600"/>
              <a:ext cx="1620720" cy="46332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Specify</a:t>
              </a:r>
              <a:endParaRPr b="1" lang="en-US" sz="11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cycle</a:t>
              </a:r>
              <a:endParaRPr b="1" lang="en-US" sz="11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41" name="Rectangle 1053"/>
            <p:cNvSpPr/>
            <p:nvPr/>
          </p:nvSpPr>
          <p:spPr>
            <a:xfrm>
              <a:off x="4971960" y="2949480"/>
              <a:ext cx="1620720" cy="4636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Test development</a:t>
              </a:r>
              <a:endParaRPr b="1" lang="en-US" sz="11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and review</a:t>
              </a:r>
              <a:endParaRPr b="1" lang="en-US" sz="11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42" name="Rectangle 1054"/>
            <p:cNvSpPr/>
            <p:nvPr/>
          </p:nvSpPr>
          <p:spPr>
            <a:xfrm>
              <a:off x="4971960" y="5032440"/>
              <a:ext cx="1620720" cy="46332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Test</a:t>
              </a:r>
              <a:endParaRPr b="1" lang="en-US" sz="11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43" name="Rectangle 1055"/>
            <p:cNvSpPr/>
            <p:nvPr/>
          </p:nvSpPr>
          <p:spPr>
            <a:xfrm>
              <a:off x="4971960" y="4338720"/>
              <a:ext cx="1620720" cy="4618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Compile</a:t>
              </a:r>
              <a:endParaRPr b="1" lang="en-US" sz="11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44" name="Rectangle 1056"/>
            <p:cNvSpPr/>
            <p:nvPr/>
          </p:nvSpPr>
          <p:spPr>
            <a:xfrm>
              <a:off x="4971960" y="3645000"/>
              <a:ext cx="1620720" cy="46332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Implementation</a:t>
              </a:r>
              <a:endParaRPr b="1" lang="en-US" sz="11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and code review</a:t>
              </a:r>
              <a:endParaRPr b="1" lang="en-US" sz="11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45" name="Rectangle 1057"/>
            <p:cNvSpPr/>
            <p:nvPr/>
          </p:nvSpPr>
          <p:spPr>
            <a:xfrm>
              <a:off x="4971960" y="5727600"/>
              <a:ext cx="1620720" cy="4618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Reassess</a:t>
              </a:r>
              <a:endParaRPr b="1" lang="en-US" sz="11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and recycle</a:t>
              </a:r>
              <a:endParaRPr b="1" lang="en-US" sz="11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46" name="Line 1058"/>
            <p:cNvSpPr/>
            <p:nvPr/>
          </p:nvSpPr>
          <p:spPr>
            <a:xfrm>
              <a:off x="5742000" y="2038320"/>
              <a:ext cx="1440" cy="217440"/>
            </a:xfrm>
            <a:prstGeom prst="line">
              <a:avLst/>
            </a:prstGeom>
            <a:ln w="25560">
              <a:solidFill>
                <a:srgbClr val="cccc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47" name="Line 1059"/>
            <p:cNvSpPr/>
            <p:nvPr/>
          </p:nvSpPr>
          <p:spPr>
            <a:xfrm>
              <a:off x="5742000" y="2733480"/>
              <a:ext cx="1440" cy="216000"/>
            </a:xfrm>
            <a:prstGeom prst="line">
              <a:avLst/>
            </a:prstGeom>
            <a:ln w="25560">
              <a:solidFill>
                <a:srgbClr val="cccc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48" name="Line 1060"/>
            <p:cNvSpPr/>
            <p:nvPr/>
          </p:nvSpPr>
          <p:spPr>
            <a:xfrm>
              <a:off x="5742000" y="3425760"/>
              <a:ext cx="1440" cy="219240"/>
            </a:xfrm>
            <a:prstGeom prst="line">
              <a:avLst/>
            </a:prstGeom>
            <a:ln w="25560">
              <a:solidFill>
                <a:srgbClr val="cccc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49" name="Line 1061"/>
            <p:cNvSpPr/>
            <p:nvPr/>
          </p:nvSpPr>
          <p:spPr>
            <a:xfrm>
              <a:off x="5742000" y="4120920"/>
              <a:ext cx="1440" cy="217800"/>
            </a:xfrm>
            <a:prstGeom prst="line">
              <a:avLst/>
            </a:prstGeom>
            <a:ln w="25560">
              <a:solidFill>
                <a:srgbClr val="cccc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50" name="Line 1062"/>
            <p:cNvSpPr/>
            <p:nvPr/>
          </p:nvSpPr>
          <p:spPr>
            <a:xfrm>
              <a:off x="5742000" y="4816440"/>
              <a:ext cx="1440" cy="216000"/>
            </a:xfrm>
            <a:prstGeom prst="line">
              <a:avLst/>
            </a:prstGeom>
            <a:ln w="25560">
              <a:solidFill>
                <a:srgbClr val="cccc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51" name="Line 1063"/>
            <p:cNvSpPr/>
            <p:nvPr/>
          </p:nvSpPr>
          <p:spPr>
            <a:xfrm>
              <a:off x="5742000" y="5510160"/>
              <a:ext cx="1440" cy="217440"/>
            </a:xfrm>
            <a:prstGeom prst="line">
              <a:avLst/>
            </a:prstGeom>
            <a:ln w="25560">
              <a:solidFill>
                <a:srgbClr val="cccc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sp>
        <p:nvSpPr>
          <p:cNvPr id="352" name="Oval 1064"/>
          <p:cNvSpPr/>
          <p:nvPr/>
        </p:nvSpPr>
        <p:spPr>
          <a:xfrm>
            <a:off x="4579920" y="2427120"/>
            <a:ext cx="73080" cy="57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grpSp>
        <p:nvGrpSpPr>
          <p:cNvPr id="353" name="Group 1065"/>
          <p:cNvGrpSpPr/>
          <p:nvPr/>
        </p:nvGrpSpPr>
        <p:grpSpPr>
          <a:xfrm>
            <a:off x="4684680" y="5630760"/>
            <a:ext cx="57240" cy="399960"/>
            <a:chOff x="4684680" y="5630760"/>
            <a:chExt cx="57240" cy="399960"/>
          </a:xfrm>
        </p:grpSpPr>
        <p:sp>
          <p:nvSpPr>
            <p:cNvPr id="354" name="Oval 1066"/>
            <p:cNvSpPr/>
            <p:nvPr/>
          </p:nvSpPr>
          <p:spPr>
            <a:xfrm>
              <a:off x="4684680" y="5803920"/>
              <a:ext cx="57240" cy="54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55" name="Oval 1067"/>
            <p:cNvSpPr/>
            <p:nvPr/>
          </p:nvSpPr>
          <p:spPr>
            <a:xfrm>
              <a:off x="4684680" y="5630760"/>
              <a:ext cx="57240" cy="57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56" name="Oval 1068"/>
            <p:cNvSpPr/>
            <p:nvPr/>
          </p:nvSpPr>
          <p:spPr>
            <a:xfrm>
              <a:off x="4684680" y="5973840"/>
              <a:ext cx="57240" cy="56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SP Scalability Limitation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SP scalability extends to scalability stage 0 or 1 programs that are less than a few KLO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ge 0:  simple routines or objec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ge 1:  small programs or modul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SP2.1 or PSP3 can be applied directly to stage 0 program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ge 1 programs will probably require PSP3, or at least several PSP2.1 iterations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ask and schedule plans should be used to track the development of each product element or cycl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Scaling Up Beyond PSP:  TSP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SP is a good software process for small projects with one or two engineer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rger projects require team effort and a team software process that integrates with PSP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team process must also address how to build effective teams and sustain their performance throughout a projec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Working in Team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915480" y="1501560"/>
            <a:ext cx="7410600" cy="48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251784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ccessful teams are both satisfying and rar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51784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51784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though many teams come close to meeting their product and business goals, they often do so at the expense of the team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51784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51784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re is something magical about an effective team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22120">
              <a:buClr>
                <a:srgbClr val="ffffff"/>
              </a:buClr>
              <a:buFont typeface="Arial"/>
              <a:buChar char="•"/>
              <a:tabLst>
                <a:tab algn="l" pos="251784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 has an ethic, an attitude, and an energy that permeate everything it doe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22120">
              <a:buClr>
                <a:srgbClr val="ffffff"/>
              </a:buClr>
              <a:buFont typeface="Arial"/>
              <a:buChar char="•"/>
              <a:tabLst>
                <a:tab algn="l" pos="251784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The teammates support one anoth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22120">
              <a:buClr>
                <a:srgbClr val="ffffff"/>
              </a:buClr>
              <a:buFont typeface="Arial"/>
              <a:buChar char="•"/>
              <a:tabLst>
                <a:tab algn="l" pos="251784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They intuitively know when and how to help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22120">
              <a:buClr>
                <a:srgbClr val="ffffff"/>
              </a:buClr>
              <a:buFont typeface="Arial"/>
              <a:buChar char="•"/>
              <a:tabLst>
                <a:tab algn="l" pos="251784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They rally around at just the right tim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22120">
              <a:buClr>
                <a:srgbClr val="ffffff"/>
              </a:buClr>
              <a:buFont typeface="Arial"/>
              <a:buChar char="•"/>
              <a:tabLst>
                <a:tab algn="l" pos="251784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The members are part of a common effort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22120">
              <a:buClr>
                <a:srgbClr val="ffffff"/>
              </a:buClr>
              <a:buFont typeface="Arial"/>
              <a:buChar char="•"/>
              <a:tabLst>
                <a:tab algn="l" pos="251784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They have a sense of belonging and a feeling of camaraderi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51784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Introduction to the TEAM Software Process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, Humphrey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51784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51784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s is what we call a “jelled team.”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eam Success or Failure?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team’s success or failure is often attributable to their ability to work as a team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chnical issues are generally not as important to team success as non-technical issues or “people” issu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ople issues are often caused by non-technical issues that produce frustration, anger, and dysfunctional behaviors that are disruptive to the team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Key Non-technical Issue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key non-technical issues that affect teams a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or leadershi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n-supportive work environ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ck of clear or shared understanding of individual responsibiliti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goals or prioriti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ced commit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defined or unplanned approach to the wor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realistic expec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ck of discipline or commit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these issues are not addressed by the team or management, team performance suffer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How Successful Teams Evolv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ability of a team to effectively work together develops over tim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ams generally begin wi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verse goa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clear sense of responsibiliti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gue ideas of the product to be buil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fferent approaches to the wor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time, team members may converge on a common understanding of these factor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n, they are able to achieve their best performanc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Requirements of Team Member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killed team members are also a key attribute of an effective team, but technical skill alone is not enough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amwork also requires personal discipline because the work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 interdepend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volves shared commit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rsonal discipline means that all team members understand their own abilities and can make realistic commitment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819612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Lecture Topics 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09280" y="1450800"/>
            <a:ext cx="7559640" cy="43308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ing the Personal Software Proces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ing the PS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alability principl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velopment strategi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cyclic PS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Team Software Proces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king in te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nciples of the TS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TSP launch proces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cking a TSP proje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xt step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What is the TSP?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TSP is a framework and a process structure for building and guiding engineering teams that develop softwar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TSP contai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i="1" lang="en-US" sz="2000" spc="-1" strike="noStrike">
                <a:solidFill>
                  <a:srgbClr val="66ffff"/>
                </a:solidFill>
                <a:latin typeface="Arial"/>
              </a:rPr>
              <a:t>team-building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process that addresses the team goals, commitment, cohesion, and structure issu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i="1" lang="en-US" sz="2000" spc="-1" strike="noStrike">
                <a:solidFill>
                  <a:srgbClr val="66ffff"/>
                </a:solidFill>
                <a:latin typeface="Arial"/>
              </a:rPr>
              <a:t>team-working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process that addresses engineering processes and practices used by the tea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prerequisite for a team to use the TSP is an understanding of the software engineering and process skills taught in the PSP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87520" y="4251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Building Effective Teams with TSP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grpSp>
        <p:nvGrpSpPr>
          <p:cNvPr id="374" name="Group 20"/>
          <p:cNvGrpSpPr/>
          <p:nvPr/>
        </p:nvGrpSpPr>
        <p:grpSpPr>
          <a:xfrm>
            <a:off x="446040" y="1376280"/>
            <a:ext cx="8077320" cy="5058000"/>
            <a:chOff x="446040" y="1376280"/>
            <a:chExt cx="8077320" cy="5058000"/>
          </a:xfrm>
        </p:grpSpPr>
        <p:sp>
          <p:nvSpPr>
            <p:cNvPr id="375" name="Rectangle 4"/>
            <p:cNvSpPr/>
            <p:nvPr/>
          </p:nvSpPr>
          <p:spPr>
            <a:xfrm>
              <a:off x="1282680" y="1376280"/>
              <a:ext cx="1525680" cy="9446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0280" rIns="260280" tIns="129960" bIns="129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SP</a:t>
              </a:r>
              <a:endParaRPr b="1" lang="en-US" sz="24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kill-building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76" name="Rectangle 5"/>
            <p:cNvSpPr/>
            <p:nvPr/>
          </p:nvSpPr>
          <p:spPr>
            <a:xfrm>
              <a:off x="6692760" y="1440000"/>
              <a:ext cx="1447920" cy="8888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0280" rIns="260280" tIns="129960" bIns="129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TSP</a:t>
              </a:r>
              <a:endParaRPr b="1" lang="en-US" sz="24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Team-working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77" name="Oval 6"/>
            <p:cNvSpPr/>
            <p:nvPr/>
          </p:nvSpPr>
          <p:spPr>
            <a:xfrm>
              <a:off x="6464160" y="3768840"/>
              <a:ext cx="2059200" cy="114120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0280" rIns="260280" tIns="129960" bIns="129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Team</a:t>
              </a:r>
              <a:endParaRPr b="1" lang="en-US" sz="24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Management</a:t>
              </a:r>
              <a:endParaRPr b="1" lang="en-US" sz="24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78" name="Oval 7"/>
            <p:cNvSpPr/>
            <p:nvPr/>
          </p:nvSpPr>
          <p:spPr>
            <a:xfrm>
              <a:off x="903240" y="3844800"/>
              <a:ext cx="2133720" cy="98928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0280" rIns="260280" tIns="129960" bIns="129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Team</a:t>
              </a:r>
              <a:endParaRPr b="1" lang="en-US" sz="24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Members</a:t>
              </a:r>
              <a:endParaRPr b="1" lang="en-US" sz="24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79" name="Oval 8"/>
            <p:cNvSpPr/>
            <p:nvPr/>
          </p:nvSpPr>
          <p:spPr>
            <a:xfrm>
              <a:off x="3570120" y="3844800"/>
              <a:ext cx="2133720" cy="114300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0280" rIns="260280" tIns="129960" bIns="129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Team</a:t>
              </a:r>
              <a:endParaRPr b="1" lang="en-US" sz="24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isciplines</a:t>
              </a:r>
              <a:endParaRPr b="1" lang="en-US" sz="24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80" name="AutoShape 9"/>
            <p:cNvSpPr/>
            <p:nvPr/>
          </p:nvSpPr>
          <p:spPr>
            <a:xfrm>
              <a:off x="3184560" y="2014560"/>
              <a:ext cx="838080" cy="2438280"/>
            </a:xfrm>
            <a:custGeom>
              <a:avLst/>
              <a:gdLst>
                <a:gd name="textAreaLeft" fmla="*/ 112320 w 838080"/>
                <a:gd name="textAreaRight" fmla="*/ 725760 w 838080"/>
                <a:gd name="textAreaTop" fmla="*/ 453240 h 2438280"/>
                <a:gd name="textAreaBottom" fmla="*/ 1634040 h 24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034" stAng="-5400000" swAng="-5400000"/>
                  <a:lnTo>
                    <a:pt x="0" y="10460"/>
                  </a:lnTo>
                  <a:arcTo wR="21600" hR="8034" stAng="10800000" swAng="-2787020"/>
                  <a:lnTo>
                    <a:pt x="14400" y="21141"/>
                  </a:lnTo>
                  <a:lnTo>
                    <a:pt x="21600" y="17280"/>
                  </a:lnTo>
                  <a:lnTo>
                    <a:pt x="14400" y="12501"/>
                  </a:lnTo>
                  <a:lnTo>
                    <a:pt x="14400" y="15608"/>
                  </a:lnTo>
                  <a:arcTo wR="21600" hR="8034" stAng="8012980" swAng="2591936"/>
                  <a:lnTo>
                    <a:pt x="248" y="9247"/>
                  </a:lnTo>
                  <a:arcTo wR="21600" hR="8034" stAng="-10604916" swAng="5204916"/>
                  <a:close/>
                </a:path>
                <a:path fill="darkenLess" w="21600" h="21600">
                  <a:moveTo>
                    <a:pt x="21600" y="0"/>
                  </a:moveTo>
                  <a:arcTo wR="21600" hR="8034" stAng="-5400000" swAng="-5400000"/>
                  <a:lnTo>
                    <a:pt x="0" y="8034"/>
                  </a:lnTo>
                  <a:arcTo wR="21600" hR="8034" stAng="10800000" swAng="-195084"/>
                  <a:lnTo>
                    <a:pt x="248" y="9247"/>
                  </a:lnTo>
                  <a:arcTo wR="21600" hR="8034" stAng="-10604916" swAng="5204916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0280" rIns="260280" tIns="129960" bIns="129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81" name="AutoShape 10"/>
            <p:cNvSpPr/>
            <p:nvPr/>
          </p:nvSpPr>
          <p:spPr>
            <a:xfrm>
              <a:off x="446040" y="2014560"/>
              <a:ext cx="836640" cy="2438280"/>
            </a:xfrm>
            <a:custGeom>
              <a:avLst/>
              <a:gdLst>
                <a:gd name="textAreaLeft" fmla="*/ 111960 w 836640"/>
                <a:gd name="textAreaRight" fmla="*/ 724680 w 836640"/>
                <a:gd name="textAreaTop" fmla="*/ 453240 h 2438280"/>
                <a:gd name="textAreaBottom" fmla="*/ 1634040 h 24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034" stAng="-5400000" swAng="-5400000"/>
                  <a:lnTo>
                    <a:pt x="0" y="10460"/>
                  </a:lnTo>
                  <a:arcTo wR="21600" hR="8034" stAng="10800000" swAng="-2787020"/>
                  <a:lnTo>
                    <a:pt x="14400" y="21141"/>
                  </a:lnTo>
                  <a:lnTo>
                    <a:pt x="21600" y="17280"/>
                  </a:lnTo>
                  <a:lnTo>
                    <a:pt x="14400" y="12501"/>
                  </a:lnTo>
                  <a:lnTo>
                    <a:pt x="14400" y="15608"/>
                  </a:lnTo>
                  <a:arcTo wR="21600" hR="8034" stAng="8012980" swAng="2591936"/>
                  <a:lnTo>
                    <a:pt x="248" y="9247"/>
                  </a:lnTo>
                  <a:arcTo wR="21600" hR="8034" stAng="-10604916" swAng="5204916"/>
                  <a:close/>
                </a:path>
                <a:path fill="darkenLess" w="21600" h="21600">
                  <a:moveTo>
                    <a:pt x="21600" y="0"/>
                  </a:moveTo>
                  <a:arcTo wR="21600" hR="8034" stAng="-5400000" swAng="-5400000"/>
                  <a:lnTo>
                    <a:pt x="0" y="8034"/>
                  </a:lnTo>
                  <a:arcTo wR="21600" hR="8034" stAng="10800000" swAng="-195084"/>
                  <a:lnTo>
                    <a:pt x="248" y="9247"/>
                  </a:lnTo>
                  <a:arcTo wR="21600" hR="8034" stAng="-10604916" swAng="5204916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0280" rIns="260280" tIns="129960" bIns="129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82" name="Text Box 11"/>
            <p:cNvSpPr/>
            <p:nvPr/>
          </p:nvSpPr>
          <p:spPr>
            <a:xfrm>
              <a:off x="1046160" y="2473200"/>
              <a:ext cx="2003400" cy="10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0280" rIns="260280" tIns="129960" bIns="12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Personal measures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Process disciplin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Estimating &amp; planning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Quality management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83" name="Text Box 12"/>
            <p:cNvSpPr/>
            <p:nvPr/>
          </p:nvSpPr>
          <p:spPr>
            <a:xfrm>
              <a:off x="3716280" y="2395440"/>
              <a:ext cx="1324080" cy="12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0280" rIns="260280" tIns="129960" bIns="12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Project goals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Team roles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Team process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Project pla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Balanced pla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84" name="AutoShape 13"/>
            <p:cNvSpPr/>
            <p:nvPr/>
          </p:nvSpPr>
          <p:spPr>
            <a:xfrm>
              <a:off x="5856120" y="2014560"/>
              <a:ext cx="836640" cy="2438280"/>
            </a:xfrm>
            <a:custGeom>
              <a:avLst/>
              <a:gdLst>
                <a:gd name="textAreaLeft" fmla="*/ 111960 w 836640"/>
                <a:gd name="textAreaRight" fmla="*/ 724680 w 836640"/>
                <a:gd name="textAreaTop" fmla="*/ 453240 h 2438280"/>
                <a:gd name="textAreaBottom" fmla="*/ 1634040 h 24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034" stAng="-5400000" swAng="-5400000"/>
                  <a:lnTo>
                    <a:pt x="0" y="10460"/>
                  </a:lnTo>
                  <a:arcTo wR="21600" hR="8034" stAng="10800000" swAng="-2787020"/>
                  <a:lnTo>
                    <a:pt x="14400" y="21141"/>
                  </a:lnTo>
                  <a:lnTo>
                    <a:pt x="21600" y="17280"/>
                  </a:lnTo>
                  <a:lnTo>
                    <a:pt x="14400" y="12501"/>
                  </a:lnTo>
                  <a:lnTo>
                    <a:pt x="14400" y="15608"/>
                  </a:lnTo>
                  <a:arcTo wR="21600" hR="8034" stAng="8012980" swAng="2591936"/>
                  <a:lnTo>
                    <a:pt x="248" y="9247"/>
                  </a:lnTo>
                  <a:arcTo wR="21600" hR="8034" stAng="-10604916" swAng="5204916"/>
                  <a:close/>
                </a:path>
                <a:path fill="darkenLess" w="21600" h="21600">
                  <a:moveTo>
                    <a:pt x="21600" y="0"/>
                  </a:moveTo>
                  <a:arcTo wR="21600" hR="8034" stAng="-5400000" swAng="-5400000"/>
                  <a:lnTo>
                    <a:pt x="0" y="8034"/>
                  </a:lnTo>
                  <a:arcTo wR="21600" hR="8034" stAng="10800000" swAng="-195084"/>
                  <a:lnTo>
                    <a:pt x="248" y="9247"/>
                  </a:lnTo>
                  <a:arcTo wR="21600" hR="8034" stAng="-10604916" swAng="5204916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0280" rIns="260280" tIns="129960" bIns="129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85" name="Text Box 14"/>
            <p:cNvSpPr/>
            <p:nvPr/>
          </p:nvSpPr>
          <p:spPr>
            <a:xfrm>
              <a:off x="6456240" y="2367000"/>
              <a:ext cx="1932120" cy="12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0280" rIns="260280" tIns="129960" bIns="12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Team communicatio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Team coordinatio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tatus tracking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Risk analysis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Project reporting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86" name="Oval 15"/>
            <p:cNvSpPr/>
            <p:nvPr/>
          </p:nvSpPr>
          <p:spPr>
            <a:xfrm>
              <a:off x="3187800" y="5214960"/>
              <a:ext cx="2973240" cy="121932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0280" rIns="260280" tIns="129960" bIns="129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Integrated</a:t>
              </a:r>
              <a:endParaRPr b="1" lang="en-US" sz="24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roduct Teams</a:t>
              </a:r>
              <a:endParaRPr b="1" lang="en-US" sz="24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87" name="AutoShape 16"/>
            <p:cNvSpPr/>
            <p:nvPr/>
          </p:nvSpPr>
          <p:spPr>
            <a:xfrm flipV="1">
              <a:off x="1743120" y="4834080"/>
              <a:ext cx="1444680" cy="1449360"/>
            </a:xfrm>
            <a:custGeom>
              <a:avLst/>
              <a:gdLst>
                <a:gd name="textAreaLeft" fmla="*/ 831960 w 1444680"/>
                <a:gd name="textAreaRight" fmla="*/ 1219320 w 1444680"/>
                <a:gd name="textAreaTop" fmla="*/ 195120 h 1449360"/>
                <a:gd name="textAreaBottom" fmla="*/ 620640 h 144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59920" rIns="259920" tIns="129960" bIns="12996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88" name="AutoShape 17"/>
            <p:cNvSpPr/>
            <p:nvPr/>
          </p:nvSpPr>
          <p:spPr>
            <a:xfrm flipH="1" flipV="1">
              <a:off x="6160320" y="4909320"/>
              <a:ext cx="1600200" cy="1297080"/>
            </a:xfrm>
            <a:custGeom>
              <a:avLst/>
              <a:gdLst>
                <a:gd name="textAreaLeft" fmla="*/ 920880 w 1600200"/>
                <a:gd name="textAreaRight" fmla="*/ 1351080 w 1600200"/>
                <a:gd name="textAreaTop" fmla="*/ 174240 h 1297080"/>
                <a:gd name="textAreaBottom" fmla="*/ 555120 h 129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59920" rIns="259920" tIns="129960" bIns="12996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89" name="AutoShape 18"/>
            <p:cNvSpPr/>
            <p:nvPr/>
          </p:nvSpPr>
          <p:spPr>
            <a:xfrm>
              <a:off x="4330800" y="4987800"/>
              <a:ext cx="687240" cy="2271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0280" rIns="260280" tIns="69120" bIns="69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90" name="Rectangle 19"/>
            <p:cNvSpPr/>
            <p:nvPr/>
          </p:nvSpPr>
          <p:spPr>
            <a:xfrm>
              <a:off x="3951360" y="1376280"/>
              <a:ext cx="1447560" cy="9446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0280" rIns="260280" tIns="129960" bIns="129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TSP</a:t>
              </a:r>
              <a:endParaRPr b="1" lang="en-US" sz="24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Team-building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Team Software Proces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Team Software Process (TSP) is a process for PSP-trained software team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supports integrated product teams with 3 to 15 member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TSP uses a team-directed approach to team managemen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can be applied to projects that involve both software development and enhancemen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SP Objective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TSP was developed to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lp software engineering teams to build quality products within cost and schedule constrai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uild teams quickly and reliab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ptimize team performance throughout a proje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celerate software process improve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ke level 5 behavior normal and exp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you are familiar with the SEI Capability Maturity Model, think of TSP as a CMM maturity level 5 process for team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eam-directed Project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SP projects are team-direct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ing team-directed means that the team manages itself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ns and tracks their wor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ages the quality of their wor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ks aggressively to meet team goa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team must also show management and the customer that they are managing themselv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equently reports status and progres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ticipates, plans for, and reports on project risk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TSP Quality Strategy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the TSP, each team member and the team are responsible for the quality of the work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gineers certify that their products are of high qualit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PSP quality metho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valuate with PSP dat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ll for team assistance as need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team certifies that each component is of high qualit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liminary inspection accept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pec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inspection as need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gration/system test accept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SP Structure and Flow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717480" y="1477440"/>
            <a:ext cx="38210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SP facilitates team-building through a defined team launch proces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launch process kicks off each major project phas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common understanding of the work and the development approach is establish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plan is produced to guide the next development phas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bsequent phases kick off with a relaunch proces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Oval 4"/>
          <p:cNvSpPr/>
          <p:nvPr/>
        </p:nvSpPr>
        <p:spPr>
          <a:xfrm>
            <a:off x="5292720" y="1379520"/>
            <a:ext cx="1225440" cy="644400"/>
          </a:xfrm>
          <a:prstGeom prst="ellipse">
            <a:avLst/>
          </a:prstGeom>
          <a:solidFill>
            <a:srgbClr val="96969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8440" rIns="28440" tIns="14400" bIns="144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658800"/>
                <a:tab algn="l" pos="1317600"/>
                <a:tab algn="l" pos="1976400"/>
                <a:tab algn="l" pos="2635200"/>
                <a:tab algn="l" pos="3294000"/>
                <a:tab algn="l" pos="3952800"/>
                <a:tab algn="l" pos="461160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2360"/>
                <a:tab algn="l" pos="105411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aunch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5743440" y="2281320"/>
            <a:ext cx="2324160" cy="985680"/>
          </a:xfrm>
          <a:prstGeom prst="rect">
            <a:avLst/>
          </a:prstGeom>
          <a:solidFill>
            <a:srgbClr val="96969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8440" rIns="28440" tIns="14400" bIns="144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658800"/>
                <a:tab algn="l" pos="1317600"/>
                <a:tab algn="l" pos="1976400"/>
                <a:tab algn="l" pos="2635200"/>
                <a:tab algn="l" pos="3294000"/>
                <a:tab algn="l" pos="3952800"/>
                <a:tab algn="l" pos="461160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2360"/>
                <a:tab algn="l" pos="105411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velopment Phase A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03" name="Arc 6"/>
          <p:cNvSpPr/>
          <p:nvPr/>
        </p:nvSpPr>
        <p:spPr>
          <a:xfrm>
            <a:off x="6550200" y="1747800"/>
            <a:ext cx="339480" cy="511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881" y="0"/>
                  <a:pt x="21532" y="9596"/>
                  <a:pt x="21599" y="21478"/>
                </a:cubicBezTo>
              </a:path>
              <a:path stroke="0" w="21600" h="21600">
                <a:moveTo>
                  <a:pt x="0" y="0"/>
                </a:moveTo>
                <a:cubicBezTo>
                  <a:pt x="11881" y="0"/>
                  <a:pt x="21532" y="9596"/>
                  <a:pt x="21599" y="21478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cap="rnd" w="324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28080" rIns="28080" tIns="14400" bIns="144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04" name="Oval 7"/>
          <p:cNvSpPr/>
          <p:nvPr/>
        </p:nvSpPr>
        <p:spPr>
          <a:xfrm>
            <a:off x="7307280" y="3444840"/>
            <a:ext cx="1225440" cy="644400"/>
          </a:xfrm>
          <a:prstGeom prst="ellipse">
            <a:avLst/>
          </a:prstGeom>
          <a:solidFill>
            <a:srgbClr val="96969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8440" rIns="28440" tIns="14400" bIns="144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658800"/>
                <a:tab algn="l" pos="1317600"/>
                <a:tab algn="l" pos="1976400"/>
                <a:tab algn="l" pos="2635200"/>
                <a:tab algn="l" pos="3294000"/>
                <a:tab algn="l" pos="3952800"/>
                <a:tab algn="l" pos="461160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2360"/>
                <a:tab algn="l" pos="105411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stmortem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05" name="Arc 8"/>
          <p:cNvSpPr/>
          <p:nvPr/>
        </p:nvSpPr>
        <p:spPr>
          <a:xfrm flipH="1" rot="16200000">
            <a:off x="6831360" y="3346200"/>
            <a:ext cx="503280" cy="3826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881" y="0"/>
                  <a:pt x="21532" y="9596"/>
                  <a:pt x="21599" y="21478"/>
                </a:cubicBezTo>
              </a:path>
              <a:path stroke="0" w="21600" h="21600">
                <a:moveTo>
                  <a:pt x="0" y="0"/>
                </a:moveTo>
                <a:cubicBezTo>
                  <a:pt x="11881" y="0"/>
                  <a:pt x="21532" y="9596"/>
                  <a:pt x="21599" y="21478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cap="rnd" w="324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28080" rIns="28080" tIns="14400" bIns="144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06" name="Oval 9"/>
          <p:cNvSpPr/>
          <p:nvPr/>
        </p:nvSpPr>
        <p:spPr>
          <a:xfrm>
            <a:off x="5622840" y="4906800"/>
            <a:ext cx="754200" cy="312840"/>
          </a:xfrm>
          <a:prstGeom prst="ellipse">
            <a:avLst/>
          </a:prstGeom>
          <a:solidFill>
            <a:srgbClr val="96969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8440" rIns="28440" tIns="14400" bIns="144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658800"/>
                <a:tab algn="l" pos="1317600"/>
                <a:tab algn="l" pos="1976400"/>
                <a:tab algn="l" pos="2635200"/>
                <a:tab algn="l" pos="3294000"/>
                <a:tab algn="l" pos="3952800"/>
                <a:tab algn="l" pos="461160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2360"/>
                <a:tab algn="l" pos="105411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elaunch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07" name="Oval 10"/>
          <p:cNvSpPr/>
          <p:nvPr/>
        </p:nvSpPr>
        <p:spPr>
          <a:xfrm>
            <a:off x="7559640" y="5553000"/>
            <a:ext cx="907920" cy="293760"/>
          </a:xfrm>
          <a:prstGeom prst="ellipse">
            <a:avLst/>
          </a:prstGeom>
          <a:solidFill>
            <a:srgbClr val="96969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8440" rIns="28440" tIns="14400" bIns="144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658800"/>
                <a:tab algn="l" pos="1317600"/>
                <a:tab algn="l" pos="1976400"/>
                <a:tab algn="l" pos="2635200"/>
                <a:tab algn="l" pos="3294000"/>
                <a:tab algn="l" pos="3952800"/>
                <a:tab algn="l" pos="461160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2360"/>
                <a:tab algn="l" pos="105411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ostmortem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08" name="Rectangle 11"/>
          <p:cNvSpPr/>
          <p:nvPr/>
        </p:nvSpPr>
        <p:spPr>
          <a:xfrm>
            <a:off x="6634080" y="5207040"/>
            <a:ext cx="909720" cy="314280"/>
          </a:xfrm>
          <a:prstGeom prst="rect">
            <a:avLst/>
          </a:prstGeom>
          <a:solidFill>
            <a:srgbClr val="96969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8440" rIns="28440" tIns="14400" bIns="144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658800"/>
                <a:tab algn="l" pos="1317600"/>
                <a:tab algn="l" pos="1976400"/>
                <a:tab algn="l" pos="2635200"/>
                <a:tab algn="l" pos="3294000"/>
                <a:tab algn="l" pos="3952800"/>
                <a:tab algn="l" pos="461160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2360"/>
                <a:tab algn="l" pos="105411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evelopment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658800"/>
                <a:tab algn="l" pos="1317600"/>
                <a:tab algn="l" pos="1976400"/>
                <a:tab algn="l" pos="2635200"/>
                <a:tab algn="l" pos="3294000"/>
                <a:tab algn="l" pos="3952800"/>
                <a:tab algn="l" pos="461160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2360"/>
                <a:tab algn="l" pos="105411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hase B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09" name="Arc 12"/>
          <p:cNvSpPr/>
          <p:nvPr/>
        </p:nvSpPr>
        <p:spPr>
          <a:xfrm>
            <a:off x="6383160" y="5045040"/>
            <a:ext cx="351000" cy="1713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881" y="0"/>
                  <a:pt x="21532" y="9596"/>
                  <a:pt x="21599" y="21478"/>
                </a:cubicBezTo>
              </a:path>
              <a:path stroke="0" w="21600" h="21600">
                <a:moveTo>
                  <a:pt x="0" y="0"/>
                </a:moveTo>
                <a:cubicBezTo>
                  <a:pt x="11881" y="0"/>
                  <a:pt x="21532" y="9596"/>
                  <a:pt x="21599" y="21478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cap="rnd" w="324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28080" rIns="28080" tIns="14400" bIns="144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10" name="Arc 13"/>
          <p:cNvSpPr/>
          <p:nvPr/>
        </p:nvSpPr>
        <p:spPr>
          <a:xfrm>
            <a:off x="7569360" y="5322960"/>
            <a:ext cx="390240" cy="2206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875" y="0"/>
                  <a:pt x="21523" y="9586"/>
                  <a:pt x="21599" y="21461"/>
                </a:cubicBezTo>
              </a:path>
              <a:path stroke="0" w="21600" h="21600">
                <a:moveTo>
                  <a:pt x="0" y="0"/>
                </a:moveTo>
                <a:cubicBezTo>
                  <a:pt x="11875" y="0"/>
                  <a:pt x="21523" y="9586"/>
                  <a:pt x="21599" y="21461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cap="rnd" w="324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28080" rIns="28080" tIns="14400" bIns="144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TSP Launch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TSP launch is a three- to four-day workshop used to kick off each project phas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team leader and all team members participat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launch workshop is considered to be part of the project work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launch workshops are planned and track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TSP Launch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TSP launch performs essential task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out the launch, these tasks generally are addressed only when need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s is often too late to prevent problem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lems often cause unanticipated project delay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launch workshop accelerates team building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team establishes a common understanding of the work and the approach that they will use to do the work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y make a plan that they can commit to and obtain management support for their pla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85360" y="419040"/>
            <a:ext cx="7707240" cy="6336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Launch Process Meeting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16" name="Text Box 3"/>
          <p:cNvSpPr/>
          <p:nvPr/>
        </p:nvSpPr>
        <p:spPr>
          <a:xfrm>
            <a:off x="1166400" y="1447920"/>
            <a:ext cx="791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y 1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17" name="Rectangle 4"/>
          <p:cNvSpPr/>
          <p:nvPr/>
        </p:nvSpPr>
        <p:spPr>
          <a:xfrm>
            <a:off x="838080" y="2095560"/>
            <a:ext cx="1447920" cy="990720"/>
          </a:xfrm>
          <a:prstGeom prst="rect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.  Establish 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duct and 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usiness 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oals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18" name="Rectangle 5"/>
          <p:cNvSpPr/>
          <p:nvPr/>
        </p:nvSpPr>
        <p:spPr>
          <a:xfrm>
            <a:off x="838080" y="3405240"/>
            <a:ext cx="1447920" cy="988920"/>
          </a:xfrm>
          <a:prstGeom prst="rect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.  Assign roles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nd define 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eam goals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19" name="Text Box 6"/>
          <p:cNvSpPr/>
          <p:nvPr/>
        </p:nvSpPr>
        <p:spPr>
          <a:xfrm>
            <a:off x="2957040" y="1447920"/>
            <a:ext cx="791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y 2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20" name="Rectangle 7"/>
          <p:cNvSpPr/>
          <p:nvPr/>
        </p:nvSpPr>
        <p:spPr>
          <a:xfrm>
            <a:off x="2629080" y="2095560"/>
            <a:ext cx="1447560" cy="990720"/>
          </a:xfrm>
          <a:prstGeom prst="rect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.  Build top-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own and 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-phase 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lans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21" name="Rectangle 8"/>
          <p:cNvSpPr/>
          <p:nvPr/>
        </p:nvSpPr>
        <p:spPr>
          <a:xfrm>
            <a:off x="2629080" y="3405240"/>
            <a:ext cx="1447560" cy="988920"/>
          </a:xfrm>
          <a:prstGeom prst="rect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.  Develop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e quality 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lan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22" name="Rectangle 9"/>
          <p:cNvSpPr/>
          <p:nvPr/>
        </p:nvSpPr>
        <p:spPr>
          <a:xfrm>
            <a:off x="2629080" y="4686480"/>
            <a:ext cx="1447560" cy="990360"/>
          </a:xfrm>
          <a:prstGeom prst="rect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.  Build bottom-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p and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nsolidated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lans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23" name="Line 10"/>
          <p:cNvSpPr/>
          <p:nvPr/>
        </p:nvSpPr>
        <p:spPr>
          <a:xfrm>
            <a:off x="1562040" y="3086280"/>
            <a:ext cx="0" cy="306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24" name="Line 11"/>
          <p:cNvSpPr/>
          <p:nvPr/>
        </p:nvSpPr>
        <p:spPr>
          <a:xfrm>
            <a:off x="3352680" y="3086280"/>
            <a:ext cx="0" cy="306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25" name="Line 12"/>
          <p:cNvSpPr/>
          <p:nvPr/>
        </p:nvSpPr>
        <p:spPr>
          <a:xfrm>
            <a:off x="3352680" y="438156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26" name="Text Box 13"/>
          <p:cNvSpPr/>
          <p:nvPr/>
        </p:nvSpPr>
        <p:spPr>
          <a:xfrm>
            <a:off x="4785840" y="1447920"/>
            <a:ext cx="791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y 3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27" name="Rectangle 14"/>
          <p:cNvSpPr/>
          <p:nvPr/>
        </p:nvSpPr>
        <p:spPr>
          <a:xfrm>
            <a:off x="4457880" y="2095560"/>
            <a:ext cx="1447560" cy="990720"/>
          </a:xfrm>
          <a:prstGeom prst="rect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7.  Conduct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isk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ssessment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28" name="Rectangle 15"/>
          <p:cNvSpPr/>
          <p:nvPr/>
        </p:nvSpPr>
        <p:spPr>
          <a:xfrm>
            <a:off x="4457880" y="3405240"/>
            <a:ext cx="1447560" cy="988920"/>
          </a:xfrm>
          <a:prstGeom prst="rect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8.  Prepare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nagement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riefing and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aunch report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29" name="Rectangle 16"/>
          <p:cNvSpPr/>
          <p:nvPr/>
        </p:nvSpPr>
        <p:spPr>
          <a:xfrm>
            <a:off x="6327720" y="3405240"/>
            <a:ext cx="1447920" cy="990720"/>
          </a:xfrm>
          <a:prstGeom prst="rect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aunch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stmortem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30" name="Line 17"/>
          <p:cNvSpPr/>
          <p:nvPr/>
        </p:nvSpPr>
        <p:spPr>
          <a:xfrm>
            <a:off x="5181480" y="3086280"/>
            <a:ext cx="0" cy="306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31" name="Line 18"/>
          <p:cNvSpPr/>
          <p:nvPr/>
        </p:nvSpPr>
        <p:spPr>
          <a:xfrm>
            <a:off x="7097760" y="310500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32" name="Text Box 19"/>
          <p:cNvSpPr/>
          <p:nvPr/>
        </p:nvSpPr>
        <p:spPr>
          <a:xfrm>
            <a:off x="6554160" y="1447920"/>
            <a:ext cx="791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y 4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33" name="Rectangle 20"/>
          <p:cNvSpPr/>
          <p:nvPr/>
        </p:nvSpPr>
        <p:spPr>
          <a:xfrm>
            <a:off x="6324480" y="2095560"/>
            <a:ext cx="1447920" cy="990720"/>
          </a:xfrm>
          <a:prstGeom prst="rect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9.  Hold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nagement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view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34" name="Rectangle 21"/>
          <p:cNvSpPr/>
          <p:nvPr/>
        </p:nvSpPr>
        <p:spPr>
          <a:xfrm>
            <a:off x="6327720" y="4741920"/>
            <a:ext cx="1447920" cy="988920"/>
          </a:xfrm>
          <a:prstGeom prst="rect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w teams: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SP process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view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35" name="Rectangle 22"/>
          <p:cNvSpPr/>
          <p:nvPr/>
        </p:nvSpPr>
        <p:spPr>
          <a:xfrm>
            <a:off x="838080" y="4686480"/>
            <a:ext cx="1447920" cy="990360"/>
          </a:xfrm>
          <a:prstGeom prst="rect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.  Produce 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velopment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rategy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36" name="Line 23"/>
          <p:cNvSpPr/>
          <p:nvPr/>
        </p:nvSpPr>
        <p:spPr>
          <a:xfrm>
            <a:off x="1562040" y="438156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cxnSp>
        <p:nvCxnSpPr>
          <p:cNvPr id="437" name="AutoShape 24"/>
          <p:cNvCxnSpPr>
            <a:stCxn id="422" idx="2"/>
            <a:endCxn id="427" idx="1"/>
          </p:cNvCxnSpPr>
          <p:nvPr/>
        </p:nvCxnSpPr>
        <p:spPr>
          <a:xfrm flipH="1" flipV="1" rot="5400000">
            <a:off x="2361960" y="3580920"/>
            <a:ext cx="3086640" cy="1105920"/>
          </a:xfrm>
          <a:prstGeom prst="bentConnector4">
            <a:avLst>
              <a:gd name="adj1" fmla="val -7406"/>
              <a:gd name="adj2" fmla="val 82741"/>
            </a:avLst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438" name="AutoShape 25"/>
          <p:cNvCxnSpPr>
            <a:stCxn id="435" idx="2"/>
            <a:endCxn id="420" idx="1"/>
          </p:cNvCxnSpPr>
          <p:nvPr/>
        </p:nvCxnSpPr>
        <p:spPr>
          <a:xfrm flipH="1" flipV="1" rot="5400000">
            <a:off x="552240" y="3600000"/>
            <a:ext cx="3086640" cy="1067760"/>
          </a:xfrm>
          <a:prstGeom prst="bentConnector4">
            <a:avLst>
              <a:gd name="adj1" fmla="val -7406"/>
              <a:gd name="adj2" fmla="val 83912"/>
            </a:avLst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439" name="AutoShape 26"/>
          <p:cNvCxnSpPr>
            <a:stCxn id="428" idx="2"/>
            <a:endCxn id="433" idx="1"/>
          </p:cNvCxnSpPr>
          <p:nvPr/>
        </p:nvCxnSpPr>
        <p:spPr>
          <a:xfrm flipH="1" flipV="1" rot="5400000">
            <a:off x="4850280" y="2920320"/>
            <a:ext cx="1803960" cy="1143720"/>
          </a:xfrm>
          <a:prstGeom prst="bentConnector4">
            <a:avLst>
              <a:gd name="adj1" fmla="val -12674"/>
              <a:gd name="adj2" fmla="val 81643"/>
            </a:avLst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Using the PSP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PSP is more than a process for writing ten very small software program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PSP is als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rsonal disciplin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nning and quality metho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cess skil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se elements of the PSP can be applied to any repetitive, structured task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veloping small software pro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eating high-level desig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riting requirements, test cases, or docu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ined engineers should use the PSP wherever it can be appli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SP Project Tracking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ject tracking in the TSP is based on the principles and measures used in the PSP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detailed team and individual plans facilitate precise project tracking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ach team member is responsible f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athering data on their wor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cking status against their personal pla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eping the team inform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ach team member is also responsible for the quality of the work that they produc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SP Project Tracking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grpSp>
        <p:nvGrpSpPr>
          <p:cNvPr id="443" name="Group 1027"/>
          <p:cNvGrpSpPr/>
          <p:nvPr/>
        </p:nvGrpSpPr>
        <p:grpSpPr>
          <a:xfrm>
            <a:off x="480960" y="1487520"/>
            <a:ext cx="7876800" cy="4385880"/>
            <a:chOff x="480960" y="1487520"/>
            <a:chExt cx="7876800" cy="4385880"/>
          </a:xfrm>
        </p:grpSpPr>
        <p:sp>
          <p:nvSpPr>
            <p:cNvPr id="444" name="Rectangle 1028"/>
            <p:cNvSpPr/>
            <p:nvPr/>
          </p:nvSpPr>
          <p:spPr>
            <a:xfrm>
              <a:off x="7041240" y="4646520"/>
              <a:ext cx="958680" cy="70056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45" name="Rectangle 1029"/>
            <p:cNvSpPr/>
            <p:nvPr/>
          </p:nvSpPr>
          <p:spPr>
            <a:xfrm>
              <a:off x="5289840" y="5084640"/>
              <a:ext cx="958320" cy="70056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Quality</a:t>
              </a:r>
              <a:endParaRPr b="1" lang="en-US" sz="12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ummary</a:t>
              </a:r>
              <a:endParaRPr b="1" lang="en-US" sz="12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46" name="Rectangle 1030"/>
            <p:cNvSpPr/>
            <p:nvPr/>
          </p:nvSpPr>
          <p:spPr>
            <a:xfrm>
              <a:off x="7190280" y="4820400"/>
              <a:ext cx="956880" cy="7027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47" name="AutoShape 1031"/>
            <p:cNvSpPr/>
            <p:nvPr/>
          </p:nvSpPr>
          <p:spPr>
            <a:xfrm>
              <a:off x="6525000" y="3593160"/>
              <a:ext cx="664920" cy="176040"/>
            </a:xfrm>
            <a:prstGeom prst="rightArrow">
              <a:avLst>
                <a:gd name="adj1" fmla="val 50000"/>
                <a:gd name="adj2" fmla="val 94427"/>
              </a:avLst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400" bIns="41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48" name="Rectangle 1032"/>
            <p:cNvSpPr/>
            <p:nvPr/>
          </p:nvSpPr>
          <p:spPr>
            <a:xfrm>
              <a:off x="7300800" y="4996800"/>
              <a:ext cx="958320" cy="70056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chedule</a:t>
              </a:r>
              <a:endParaRPr b="1" lang="en-US" sz="12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tatus</a:t>
              </a:r>
              <a:endParaRPr b="1" lang="en-US" sz="12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Engineer A</a:t>
              </a:r>
              <a:endParaRPr b="1" lang="en-US" sz="9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49" name="Rectangle 1033"/>
            <p:cNvSpPr/>
            <p:nvPr/>
          </p:nvSpPr>
          <p:spPr>
            <a:xfrm>
              <a:off x="5289840" y="1575000"/>
              <a:ext cx="958320" cy="7027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duct</a:t>
              </a:r>
              <a:endParaRPr b="1" lang="en-US" sz="12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ummary</a:t>
              </a:r>
              <a:endParaRPr b="1" lang="en-US" sz="12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50" name="AutoShape 1034"/>
            <p:cNvSpPr/>
            <p:nvPr/>
          </p:nvSpPr>
          <p:spPr>
            <a:xfrm>
              <a:off x="1218240" y="3331440"/>
              <a:ext cx="3490920" cy="700560"/>
            </a:xfrm>
            <a:custGeom>
              <a:avLst/>
              <a:gdLst>
                <a:gd name="textAreaLeft" fmla="*/ 545760 w 3490920"/>
                <a:gd name="textAreaRight" fmla="*/ 3053880 w 3490920"/>
                <a:gd name="textAreaTop" fmla="*/ 176040 h 700560"/>
                <a:gd name="textAreaBottom" fmla="*/ 526680 h 70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51" name="AutoShape 1035"/>
            <p:cNvSpPr/>
            <p:nvPr/>
          </p:nvSpPr>
          <p:spPr>
            <a:xfrm rot="3111600">
              <a:off x="911520" y="2776680"/>
              <a:ext cx="1534320" cy="184320"/>
            </a:xfrm>
            <a:prstGeom prst="rightArrow">
              <a:avLst>
                <a:gd name="adj1" fmla="val 50000"/>
                <a:gd name="adj2" fmla="val 208105"/>
              </a:avLst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52" name="AutoShape 1036"/>
            <p:cNvSpPr/>
            <p:nvPr/>
          </p:nvSpPr>
          <p:spPr>
            <a:xfrm rot="3111600">
              <a:off x="2606760" y="2777400"/>
              <a:ext cx="1534320" cy="182880"/>
            </a:xfrm>
            <a:prstGeom prst="rightArrow">
              <a:avLst>
                <a:gd name="adj1" fmla="val 50000"/>
                <a:gd name="adj2" fmla="val 209744"/>
              </a:avLst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53" name="AutoShape 1037"/>
            <p:cNvSpPr/>
            <p:nvPr/>
          </p:nvSpPr>
          <p:spPr>
            <a:xfrm rot="18417000">
              <a:off x="2680560" y="4356000"/>
              <a:ext cx="1533960" cy="184680"/>
            </a:xfrm>
            <a:prstGeom prst="rightArrow">
              <a:avLst>
                <a:gd name="adj1" fmla="val 50000"/>
                <a:gd name="adj2" fmla="val 207651"/>
              </a:avLst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54" name="AutoShape 1038"/>
            <p:cNvSpPr/>
            <p:nvPr/>
          </p:nvSpPr>
          <p:spPr>
            <a:xfrm rot="18417000">
              <a:off x="911520" y="4356000"/>
              <a:ext cx="1533960" cy="184320"/>
            </a:xfrm>
            <a:prstGeom prst="rightArrow">
              <a:avLst>
                <a:gd name="adj1" fmla="val 50000"/>
                <a:gd name="adj2" fmla="val 208057"/>
              </a:avLst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55" name="Oval 1039"/>
            <p:cNvSpPr/>
            <p:nvPr/>
          </p:nvSpPr>
          <p:spPr>
            <a:xfrm>
              <a:off x="480960" y="4732560"/>
              <a:ext cx="1326600" cy="105264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Enter defects </a:t>
              </a:r>
              <a:endParaRPr b="1" lang="en-US" sz="12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by component </a:t>
              </a:r>
              <a:endParaRPr b="1" lang="en-US" sz="12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nd phase</a:t>
              </a:r>
              <a:endParaRPr b="1" lang="en-US" sz="12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56" name="Oval 1040"/>
            <p:cNvSpPr/>
            <p:nvPr/>
          </p:nvSpPr>
          <p:spPr>
            <a:xfrm>
              <a:off x="2398320" y="4820400"/>
              <a:ext cx="1326600" cy="10530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Enter </a:t>
              </a:r>
              <a:endParaRPr b="1" lang="en-US" sz="12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ize by</a:t>
              </a:r>
              <a:endParaRPr b="1" lang="en-US" sz="12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omponent</a:t>
              </a:r>
              <a:endParaRPr b="1" lang="en-US" sz="12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57" name="Oval 1041"/>
            <p:cNvSpPr/>
            <p:nvPr/>
          </p:nvSpPr>
          <p:spPr>
            <a:xfrm>
              <a:off x="2398320" y="1575000"/>
              <a:ext cx="1326600" cy="10530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Enter </a:t>
              </a:r>
              <a:endParaRPr b="1" lang="en-US" sz="12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week task</a:t>
              </a:r>
              <a:endParaRPr b="1" lang="en-US" sz="12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ompleted</a:t>
              </a:r>
              <a:endParaRPr b="1" lang="en-US" sz="12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58" name="Oval 1042"/>
            <p:cNvSpPr/>
            <p:nvPr/>
          </p:nvSpPr>
          <p:spPr>
            <a:xfrm>
              <a:off x="555120" y="1487520"/>
              <a:ext cx="1326600" cy="105264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Enter </a:t>
              </a:r>
              <a:endParaRPr b="1" lang="en-US" sz="12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ime by</a:t>
              </a:r>
              <a:endParaRPr b="1" lang="en-US" sz="12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ask</a:t>
              </a:r>
              <a:endParaRPr b="1" lang="en-US" sz="12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59" name="AutoShape 1043"/>
            <p:cNvSpPr/>
            <p:nvPr/>
          </p:nvSpPr>
          <p:spPr>
            <a:xfrm>
              <a:off x="5732280" y="4119840"/>
              <a:ext cx="146880" cy="964800"/>
            </a:xfrm>
            <a:prstGeom prst="downArrow">
              <a:avLst>
                <a:gd name="adj1" fmla="val 50000"/>
                <a:gd name="adj2" fmla="val 164216"/>
              </a:avLst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60" name="AutoShape 1044"/>
            <p:cNvSpPr/>
            <p:nvPr/>
          </p:nvSpPr>
          <p:spPr>
            <a:xfrm rot="10800000">
              <a:off x="5732280" y="2278080"/>
              <a:ext cx="146880" cy="964800"/>
            </a:xfrm>
            <a:prstGeom prst="downArrow">
              <a:avLst>
                <a:gd name="adj1" fmla="val 50000"/>
                <a:gd name="adj2" fmla="val 164216"/>
              </a:avLst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61" name="Rectangle 1045"/>
            <p:cNvSpPr/>
            <p:nvPr/>
          </p:nvSpPr>
          <p:spPr>
            <a:xfrm>
              <a:off x="4709520" y="3154680"/>
              <a:ext cx="2110680" cy="10530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Updated team and</a:t>
              </a:r>
              <a:endParaRPr b="1" lang="en-US" sz="12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engineer task, schedule,</a:t>
              </a:r>
              <a:endParaRPr b="1" lang="en-US" sz="12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nd quality plans</a:t>
              </a:r>
              <a:endParaRPr b="1" lang="en-US" sz="12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62" name="AutoShape 1046"/>
            <p:cNvSpPr/>
            <p:nvPr/>
          </p:nvSpPr>
          <p:spPr>
            <a:xfrm rot="5010600">
              <a:off x="7256160" y="4480560"/>
              <a:ext cx="1007640" cy="110160"/>
            </a:xfrm>
            <a:prstGeom prst="rightArrow">
              <a:avLst>
                <a:gd name="adj1" fmla="val 50000"/>
                <a:gd name="adj2" fmla="val 228676"/>
              </a:avLst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63" name="AutoShape 1047"/>
            <p:cNvSpPr/>
            <p:nvPr/>
          </p:nvSpPr>
          <p:spPr>
            <a:xfrm rot="6050400">
              <a:off x="7126920" y="4111920"/>
              <a:ext cx="1007640" cy="146880"/>
            </a:xfrm>
            <a:prstGeom prst="rightArrow">
              <a:avLst>
                <a:gd name="adj1" fmla="val 50000"/>
                <a:gd name="adj2" fmla="val 171507"/>
              </a:avLst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64" name="AutoShape 1048"/>
            <p:cNvSpPr/>
            <p:nvPr/>
          </p:nvSpPr>
          <p:spPr>
            <a:xfrm rot="5535600">
              <a:off x="7182360" y="4304880"/>
              <a:ext cx="1009800" cy="110160"/>
            </a:xfrm>
            <a:prstGeom prst="rightArrow">
              <a:avLst>
                <a:gd name="adj1" fmla="val 50000"/>
                <a:gd name="adj2" fmla="val 229167"/>
              </a:avLst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65" name="AutoShape 1049"/>
            <p:cNvSpPr/>
            <p:nvPr/>
          </p:nvSpPr>
          <p:spPr>
            <a:xfrm rot="15351000">
              <a:off x="6968880" y="2862720"/>
              <a:ext cx="1140840" cy="146880"/>
            </a:xfrm>
            <a:prstGeom prst="rightArrow">
              <a:avLst>
                <a:gd name="adj1" fmla="val 50000"/>
                <a:gd name="adj2" fmla="val 194179"/>
              </a:avLst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66" name="AutoShape 1050"/>
            <p:cNvSpPr/>
            <p:nvPr/>
          </p:nvSpPr>
          <p:spPr>
            <a:xfrm rot="16015200">
              <a:off x="7060680" y="2948760"/>
              <a:ext cx="1140840" cy="146880"/>
            </a:xfrm>
            <a:prstGeom prst="rightArrow">
              <a:avLst>
                <a:gd name="adj1" fmla="val 50000"/>
                <a:gd name="adj2" fmla="val 194179"/>
              </a:avLst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67" name="AutoShape 1051"/>
            <p:cNvSpPr/>
            <p:nvPr/>
          </p:nvSpPr>
          <p:spPr>
            <a:xfrm rot="16507200">
              <a:off x="7134840" y="3125160"/>
              <a:ext cx="1140840" cy="146160"/>
            </a:xfrm>
            <a:prstGeom prst="rightArrow">
              <a:avLst>
                <a:gd name="adj1" fmla="val 50000"/>
                <a:gd name="adj2" fmla="val 195135"/>
              </a:avLst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68" name="Rectangle 1052"/>
            <p:cNvSpPr/>
            <p:nvPr/>
          </p:nvSpPr>
          <p:spPr>
            <a:xfrm>
              <a:off x="7190280" y="3331440"/>
              <a:ext cx="1167480" cy="70056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eam task </a:t>
              </a:r>
              <a:endParaRPr b="1" lang="en-US" sz="12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nd schedule</a:t>
              </a:r>
              <a:endParaRPr b="1" lang="en-US" sz="12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ummary</a:t>
              </a:r>
              <a:endParaRPr b="1" lang="en-US" sz="12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69" name="Rectangle 1053"/>
            <p:cNvSpPr/>
            <p:nvPr/>
          </p:nvSpPr>
          <p:spPr>
            <a:xfrm>
              <a:off x="7115760" y="1575000"/>
              <a:ext cx="958320" cy="7027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70" name="Rectangle 1054"/>
            <p:cNvSpPr/>
            <p:nvPr/>
          </p:nvSpPr>
          <p:spPr>
            <a:xfrm>
              <a:off x="7190280" y="1751760"/>
              <a:ext cx="956880" cy="70056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71" name="Rectangle 1055"/>
            <p:cNvSpPr/>
            <p:nvPr/>
          </p:nvSpPr>
          <p:spPr>
            <a:xfrm>
              <a:off x="7300800" y="1927800"/>
              <a:ext cx="958320" cy="70056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ask status</a:t>
              </a:r>
              <a:endParaRPr b="1" lang="en-US" sz="12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Engineer A</a:t>
              </a:r>
              <a:endParaRPr b="1" lang="en-US" sz="9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SP and TSP Experience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sters communication and decision making by the team”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vides a framework for coordinating and tracking team activities”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[Allied Signal engineers]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’s good project management techniques coupled with good personal data. The problem with most software development is, it’s done with an ad hoc structure.”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[Dave Webb, in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IEEE Softwar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Nov 2000, p. 125]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may appear at first glance that PSP training will cause a slip in schedule, but you actually get your money back after 1,200 lines of code.”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[Bob Musson, in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IEEE Softwar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Nov 2000, p.126]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Next Step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you complete th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SP for Engineer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ourse, you are qualified to be a TSP team member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may also train to be an authorized PSP instructor and TSP launch coach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SP Instructor Training Purpos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EI offers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SP Instructor Training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for the purpose o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aching others to teach the PS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celerating the transition of PSP into practi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horizing instructors to ensure the quality of PSP instruc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roving the quality of PSP instruc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SP Instructor Authorization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fter successfully completing th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SP Instructor Training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ourse, you will be an authorized PSP instructor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 an authorized instructor, you are allowed to use and reproduce the course materials needed to teach PSP within your organizatio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are required to provide student data and course evaluations for each course you teach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tails will be covered in th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SP Instructor Training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ours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SP Instructor Training Strategy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teach the PSP, you must understand the PSP principles, techniques, and method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understand the PSP principles, techniques and methods, you must practice using them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addition to the PSP course, you will complete assignments that will prepare you t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ach the PSP to oth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roduce the PSP into practi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SP Instructor Training Requirement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915480" y="170172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ry criteri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ete a written pre-test (open-book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bmit your PSP student data to the SEI for screening to ensure that you have a basic understanding of the PS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vious teaching or public speaking experie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ake the five-day training course at the SEI within eighteen months of completing th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SP for Engineer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ours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sent your PSP data and a case stu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ss a qualification exam (closed-book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SP Launch Coach Training Purpos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915480" y="171612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EI offers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TSP Launch Coach Training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for the purpose o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aching others to coach TSP te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celerating the transition of TSP into practi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horizing instructors to ensure the quality of TSP practi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943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SP Launch Coach Training Requirement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915480" y="170172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ry criteri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I-authorized PSP instruct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SP license agreement between your organization and CM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ake the five-day training course at the SEI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unch exercis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aching scenario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ualification exam (closed-book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duct a TSP launch with a qualified observer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ows mentoring of the launch coach candid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sures that the candidate has the requisite knowledge and skil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Investing in the PSP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801720" y="145080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time invest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cess development takes about one to two hours per form and scrip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cess updates will be needed at least every three month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entry and analysis will take about an hour for each PSP-sized projec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emotional invest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PSP takes a lot of work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re will be occasional frustration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will clearly see your own limitation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Responsible Professional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 a responsible professional, you need t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nd learn new metho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these methods in your wor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cognize your strengths and weakness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dentify areas for improve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ctice, practice, practi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ublicize the methods that you find helpfu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arn fro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s will assure your continuing improvemen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What Do You Want from Software Engineering?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are your personal objectiv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rprisingly often, we achieve our objectives in ways that we did not expect, so keep an open mind and keep looking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ce we all reach the same end, we should concentrate on the rout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you can occasionally achieve excellence, it could be well worth the trip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Benefits of the PSP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801720" y="1450800"/>
            <a:ext cx="76644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ight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will better understand your strengths and weakness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will be better able to maximize your asset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PSP will help you to deal objectively with your weakness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dea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y defining your process, you assert control over i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can act like a process owner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critical facilities will be in gear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will unconsciously observe your working self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will see many ways to improve your process and your performanc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Benefits of the PSP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rovement framewor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defined process provides a language for thinking about your work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can better see how the process parts relat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can better focus on priority areas for improvement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rsonal contro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will have a planning framework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will have the data on which to base your plan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plans will be more reliabl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will be better able to track your statu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will be better able to manage your work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Benefits of the PSP -3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826560" y="145080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complishments and personal bes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will recognize your personal best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will better understand how to repeat and to surpass them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will see where and how you have improv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will have your own personal improvement goals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will have the satisfaction that comes with knowing that you are doing superior work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Adapting the PSP to Practic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ctical applications of the PSP typically involve requirements that are more complex than a classroom exercis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practice, most software engineers start by modifying PSP2.1 to meet their need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general approach is t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sistently apply the concepts and principl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ailor the scripts, measures, methods, and for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01T18:48:08Z</dcterms:created>
  <dc:creator>Computing Facilities</dc:creator>
  <dc:description/>
  <dc:language>en-US</dc:language>
  <cp:lastModifiedBy>wrn_loc_adm</cp:lastModifiedBy>
  <cp:lastPrinted>1998-04-29T15:16:24Z</cp:lastPrinted>
  <dcterms:modified xsi:type="dcterms:W3CDTF">2018-09-06T00:16:30Z</dcterms:modified>
  <cp:revision>95</cp:revision>
  <dc:subject/>
  <dc:title>No Slide Title</dc:title>
</cp:coreProperties>
</file>